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2825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DFDD76-92A7-4674-BA54-3065E24A8A6B}" type="datetime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205c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9398CA-1132-4611-8DF1-CE1D5807E28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F76E8C1-9408-4830-B79E-BCDC210CCBF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124E700-521A-4A2B-973B-7080DD34A6FF}" type="datetime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540CDA-7015-45CA-8B9D-5119F330C81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FDF8109-E2AE-40FD-9A98-16453CD51862}" type="datetime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2868B9-D2B1-4CE8-8D5D-BC704EBC014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CD1304-EBA0-43A9-8422-27DAECEEF938}" type="datetime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3040" y="409392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620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884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500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304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884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500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2880" y="361800"/>
            <a:ext cx="4562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620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3040" y="409392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620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884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3500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4304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884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3500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2880" y="361800"/>
            <a:ext cx="4562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620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2038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205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650960" y="1228680"/>
            <a:ext cx="6600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2038" r="0" b="0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728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8205c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58720" y="361800"/>
            <a:ext cx="715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 Waste is Good Waste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000000"/>
                </a:solidFill>
                <a:uFillTx/>
                <a:latin typeface="Arial"/>
              </a:rPr>
              <a:t>A hulladékmegelőzés szerepe a környezetvédelem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r. Persányi Mikló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rnyezetvédelmi és vízügyi minisz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005. június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50720" y="259920"/>
            <a:ext cx="62643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hulladék mennyisége 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millió tonna/év)</a:t>
            </a:r>
            <a:endParaRPr b="1" lang="en-US" sz="3200" spc="-1" strike="noStrike">
              <a:solidFill>
                <a:srgbClr val="08205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35080" y="1173240"/>
          <a:ext cx="7900920" cy="56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5080" y="1173240"/>
                    <a:ext cx="790092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0" y="361800"/>
            <a:ext cx="712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KvVM kiemelt feladata 2005-ben</a:t>
            </a:r>
            <a:endParaRPr b="1" lang="en-US" sz="32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598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2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Hulladékforradal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egyen kevesebb hulladék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öbb hulladékot hasznosítsunk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obbanásszerű szelektív hulladékgyűjtés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i a veszélyes hulladékokkal a lakossági szemétből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Illegális hulladékelhagyó!  Reszkess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361800"/>
            <a:ext cx="7153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Hulladékforradalom</a:t>
            </a:r>
            <a:endParaRPr b="1" lang="en-US" sz="36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méthalmok között gázolunk;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23 millió köbmét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települési hulladék keletkezik egy év al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Azt akarjuk, hogy ne érjen térdig a szemé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Azt akarjuk, hogy bokáig se érj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szközrendszer</a:t>
            </a:r>
            <a:endParaRPr b="1" lang="en-US" sz="32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Ga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zdasági szabályzó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dminisztratív, jogi szabályzó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Szemléletformál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ruház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7440" y="361800"/>
            <a:ext cx="7615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Jogszabályok a hulladékmegelőzésért</a:t>
            </a:r>
            <a:endParaRPr b="1" lang="en-US" sz="32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4720" y="1484280"/>
            <a:ext cx="841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arab alapú termékdí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nnyiség arányos szemétdí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tétdí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ktromos és elektronikai berendezés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ulladékká vált gépjármű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mek és akkumulátorok (elfogadás előt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358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ulladékforradalom</a:t>
            </a:r>
            <a:endParaRPr b="1" lang="en-US" sz="32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41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Hulladékgazdálkodási beruházások 2004-2005-ben (Mrd F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79440" y="2276640"/>
          <a:ext cx="671364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276640"/>
                    <a:ext cx="671364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00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Hulladékforradalom</a:t>
            </a:r>
            <a:endParaRPr b="1" lang="en-US" sz="28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4360" y="1268280"/>
            <a:ext cx="8688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változásokat nagyberuházások alapozzá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6 millió ember számára kidolgozásra került 13 térségi hulladékgazdálkodási (12 ISPA + 1 KA ) projekt 110 Mrd Ft (70 Mrd Ft EU támogatá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 KA projekt előkészítése a 2007-es indításra megkezdődött (1,3 Mrd Ft a kidolgozás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ivitelezés alatt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olnoki, Hajdú-Bihar, Miskolc, Szeged, Tisza-tavi, Duna-Tisza, Sajó-Bódva völg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őkészítés alatt: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ugat Balaton, , Dél-Balaton, Szabolcs-Szatmár, Homokhátság, Mecsek-Dráva, Győr-Mosonmagyaróvár-Sopron, Közép-Duna vidék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ond van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zak-Balaton, É-K 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361800"/>
            <a:ext cx="715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ulladékforradalom</a:t>
            </a:r>
            <a:endParaRPr b="1" lang="en-US" sz="3200" spc="-1" strike="noStrike">
              <a:solidFill>
                <a:srgbClr val="08205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0360" y="1197000"/>
            <a:ext cx="871380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35800" y="5589720"/>
            <a:ext cx="3168720" cy="107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cc"/>
                </a:solidFill>
                <a:latin typeface="Arial"/>
              </a:rPr>
              <a:t>Uniós hulladékos beruházás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ulladékforradalom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ruházások problém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ányos előkészítés az előző ciklu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nkormányzatok együttműködési- és szervező képessége (illetve ezek hián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onyolult uniós elbírálási foly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gedélyezés nehézségei (tudatos lassítás, bíróságok lassú döntéshozata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áratlanság az Eu szabályok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361800"/>
            <a:ext cx="7153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Hulladékforradalom</a:t>
            </a:r>
            <a:endParaRPr b="1" lang="en-US" sz="36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méthalmok között gázolunk;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23 millió köbmét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települési hulladék keletkezik egy év al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Azt akarjuk, hogy ne érjen térdig a szemé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Azt akarjuk, hogy bokáig se érj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58720" y="361800"/>
            <a:ext cx="715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iről lesz szó?</a:t>
            </a:r>
            <a:r>
              <a:rPr b="1" lang="hu-HU" sz="2000" spc="-1" strike="noStrike">
                <a:solidFill>
                  <a:srgbClr val="08205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Fenntartható fejlődés és hulladékgazdálko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EU elvek, célkitűzés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Magyar vállal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lladékforradal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47440" y="1557000"/>
            <a:ext cx="82803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205c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iszta, szép, egészséges és modern Magyarországot! </a:t>
            </a:r>
            <a:endParaRPr b="0" lang="en-US" sz="4400" spc="-1" strike="noStrike">
              <a:solidFill>
                <a:srgbClr val="08205c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361800"/>
            <a:ext cx="715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enntartható fejlődés és hulladékgazdálkodás</a:t>
            </a:r>
            <a:r>
              <a:rPr b="1" lang="hu-HU" sz="2000" spc="-1" strike="noStrike">
                <a:solidFill>
                  <a:srgbClr val="08205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akarékos bánásmód a természeti erőforrásokk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em megújuló természeti erőforrások kitermelésének mérsék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tékony és takarékos anyag és energiafelhaszná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nyezet minél kisebb mértékű terh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ékek és technológiák e szempontoknak megfelelő tervezése, előállítása és megvaló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 hulladékgazdálkodás alapelvei</a:t>
            </a:r>
            <a:endParaRPr b="1" lang="en-US" sz="21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4720" y="1268280"/>
            <a:ext cx="841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gyártói felelősség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ve alapján a termék előállítója felelő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rmék és a technológia kedvező megválasztásá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rmék előállításából és felhasználásából származó, illetve a termékből keletkező hulladék hasznosításának vagy ártalmatlanításának megtervezésé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ulladékkezelés költségeihez történő hozzájárulás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megosztott felelősség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ve alapján a kötelezettségek teljesítésében a termék és hulladéka teljes életciklusában érintett szereplőknek együtt kell működniü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47440" y="361800"/>
            <a:ext cx="6867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hulladékgazdálkodás célrendszere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3080" y="2276640"/>
            <a:ext cx="3168360" cy="3673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14720" y="2205000"/>
            <a:ext cx="2592360" cy="2498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3500280"/>
            <a:ext cx="2016000" cy="2089440"/>
          </a:xfrm>
          <a:prstGeom prst="ellipse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iztonság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ártalmatlanít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83080" y="3789000"/>
            <a:ext cx="360360" cy="144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80160" y="378936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7800" y="335772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Unicode MS"/>
              </a:rPr>
              <a:t>Hulladék-képződés megelőzése, hulladék veszélyességének csökke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2009880"/>
            <a:ext cx="7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03800" y="3141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Újrahasznála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sznosít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tratégiai célirányok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egelőzés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ntegrált szennyezés-megelőzés elve alapján, a környezetterhelés csökkentése érdekében, a legkisebb mértékűre kell szorítani a képződő hulladék mennyiségét és veszélyes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technológia fejlesztéséve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tiszta technológiák alkalmazásá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termékek fejlesztéséve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minimális hulladéktartalmú, illetve hulladékként jól hasznosítható termékek előállításával, ehhez kapcsolódóan a termék életciklusának elemzése a környezeti hatások szempontjábó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7440" y="361800"/>
            <a:ext cx="7615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Hulladékcsökkentési célok az EU 6. Környezetvédelmi Akcióprogram keretében</a:t>
            </a:r>
            <a:endParaRPr b="1" lang="en-US" sz="28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1557360"/>
            <a:ext cx="841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Hulladékmegelőzés és Hasznosítás Tematikus Stratégiá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előzési lehetőségek azono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egyi anyag politika, a minőségi megelőzés eszkö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nyagában történő hasznosítás fejlesz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rnyezeti költségeket (erőforrás felhasználás, hulladék-kezelés) tükröző árak kialak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asznosító ipar fejlesztését gátló tényezőket megszünte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érhető legjobb technológiák (BAT) a hasznosító ipar szám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98360" y="333000"/>
            <a:ext cx="761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t vállalt Magyarország? 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8720" y="1413000"/>
            <a:ext cx="86011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hasznosít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ter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magolási hulladék: 2005-ig 50%-os hasznosítási ar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ológiailag lebomló hulladék: 2004-ig az 1995-ös mennyiség 75%-ára, 2007-ig 50%-ára, (2014-ig 35%-ár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gumiabroncs hulladék 2003-tól, a gumiőrlemény 2006-tól lerakási til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ztartási elektromos és elektronikai hulladék: 4 kg/lakos/év  2008. december 31-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zennyvízisza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k 40%-os hasznosítási arányát 2008-ra 55%-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ncsautók tömegének 85%-át hasznosítani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1980 előttiek 75%-á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8360" y="333000"/>
            <a:ext cx="761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t vállalt Magyarország? 2.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720" y="1413000"/>
            <a:ext cx="86011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ártalmatlaní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területé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k a nem hasznosítható hulladék kerüljön lerakás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em megfelelően kialakított hulladék-tárolók és lerakók bezárása 2009-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veszélyes hulladé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k teré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eszélyes anyagok felhasználását korlátozni kell (pl. toxikus nehézfémek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ártási maradékok: 30%-os hasznosítási arány 2008-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07:08:40Z</dcterms:created>
  <dc:creator>Császár Tibor</dc:creator>
  <dc:description/>
  <dc:language>en-US</dc:language>
  <cp:lastModifiedBy>Novák Gergely</cp:lastModifiedBy>
  <cp:lastPrinted>2003-01-19T00:58:00Z</cp:lastPrinted>
  <dcterms:modified xsi:type="dcterms:W3CDTF">2005-06-08T21:34:51Z</dcterms:modified>
  <cp:revision>117</cp:revision>
  <dc:subject/>
  <dc:title>A kormány zöld lelkiismere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5526405</vt:r8>
  </property>
  <property fmtid="{D5CDD505-2E9C-101B-9397-08002B2CF9AE}" pid="3" name="_AuthorEmail">
    <vt:lpwstr>kissbeatrix@mail.kvvm.hu</vt:lpwstr>
  </property>
  <property fmtid="{D5CDD505-2E9C-101B-9397-08002B2CF9AE}" pid="4" name="_AuthorEmailDisplayName">
    <vt:lpwstr>Kiss Beatrix</vt:lpwstr>
  </property>
  <property fmtid="{D5CDD505-2E9C-101B-9397-08002B2CF9AE}" pid="5" name="_EmailSubject">
    <vt:lpwstr>Persányi-hulladékmegelőzés.ppt</vt:lpwstr>
  </property>
  <property fmtid="{D5CDD505-2E9C-101B-9397-08002B2CF9AE}" pid="6" name="_ReviewingToolsShownOnce">
    <vt:lpwstr/>
  </property>
</Properties>
</file>