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3792240"/>
            <a:ext cx="8353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379224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040" y="379224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19700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19700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379224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379224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79224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9280" y="-360"/>
            <a:ext cx="8604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640" y="379224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0040" y="379224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3792240"/>
            <a:ext cx="8353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640" y="3792240"/>
            <a:ext cx="8353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640" y="379224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0040" y="379224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4200" y="119700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8400" y="119700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640" y="379224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4200" y="379224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88400" y="3792240"/>
            <a:ext cx="2689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-360"/>
            <a:ext cx="8604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379224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040" y="379224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3792240"/>
            <a:ext cx="8353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4"/>
                </a:solidFill>
                <a:latin typeface="OptimaCE"/>
              </a:rPr>
              <a:t>Click to edit the title text format</a:t>
            </a: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00"/>
              </a:spcBef>
              <a:buClr>
                <a:srgbClr val="006634"/>
              </a:buClr>
              <a:buSzPct val="120000"/>
              <a:buFont typeface="Optim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C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lvl="1" marL="863640" indent="-227160">
              <a:spcBef>
                <a:spcPts val="700"/>
              </a:spcBef>
              <a:buClr>
                <a:srgbClr val="006634"/>
              </a:buClr>
              <a:buFont typeface="Optim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C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lvl="2" marL="1600200" indent="-244440">
              <a:spcBef>
                <a:spcPts val="700"/>
              </a:spcBef>
              <a:buClr>
                <a:srgbClr val="006634"/>
              </a:buClr>
              <a:buFont typeface="Optim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C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lvl="3" marL="2286000" indent="-235080">
              <a:spcBef>
                <a:spcPts val="700"/>
              </a:spcBef>
              <a:buClr>
                <a:srgbClr val="006634"/>
              </a:buClr>
              <a:buFont typeface="Optim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C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lvl="4" marL="2857680" indent="-262080">
              <a:spcBef>
                <a:spcPts val="700"/>
              </a:spcBef>
              <a:buClr>
                <a:srgbClr val="006634"/>
              </a:buClr>
              <a:buSzPct val="80000"/>
              <a:buFont typeface="Optim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C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lvl="5" marL="2857680" indent="-262080">
              <a:spcBef>
                <a:spcPts val="700"/>
              </a:spcBef>
              <a:buClr>
                <a:srgbClr val="000000"/>
              </a:buClr>
              <a:buSzPct val="80000"/>
              <a:buFont typeface="Optim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C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lvl="6" marL="2857680" indent="-262080">
              <a:spcBef>
                <a:spcPts val="700"/>
              </a:spcBef>
              <a:buClr>
                <a:srgbClr val="000000"/>
              </a:buClr>
              <a:buSzPct val="80000"/>
              <a:buFont typeface="Optim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C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539640" y="6237360"/>
            <a:ext cx="244800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51640" y="635328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34"/>
                </a:solidFill>
                <a:latin typeface="OptimaCE"/>
              </a:rPr>
              <a:t>www.rec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848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4"/>
                </a:solidFill>
                <a:latin typeface="OptimaCE"/>
              </a:rPr>
              <a:t>Click to edit the title text format</a:t>
            </a:r>
            <a:endParaRPr b="1" lang="en-US" sz="4000" spc="-1" strike="noStrike">
              <a:solidFill>
                <a:srgbClr val="006634"/>
              </a:solidFill>
              <a:latin typeface="OptimaC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14760" y="5805360"/>
            <a:ext cx="2201760" cy="884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4"/>
                </a:solidFill>
                <a:latin typeface="OptimaCE"/>
              </a:rPr>
              <a:t>Click to edit the outline text format</a:t>
            </a:r>
            <a:endParaRPr b="0" lang="en-US" sz="2800" spc="-1" strike="noStrike">
              <a:solidFill>
                <a:srgbClr val="006634"/>
              </a:solidFill>
              <a:latin typeface="OptimaC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C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lvl="2" marL="914400" indent="441360" algn="ctr">
              <a:spcBef>
                <a:spcPts val="499"/>
              </a:spcBef>
              <a:buClr>
                <a:srgbClr val="006634"/>
              </a:buClr>
              <a:buFont typeface="OptimaC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C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lvl="3" marL="1371600" indent="679320" algn="ctr">
              <a:spcBef>
                <a:spcPts val="499"/>
              </a:spcBef>
              <a:buClr>
                <a:srgbClr val="006634"/>
              </a:buClr>
              <a:buFont typeface="OptimaC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C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lvl="4" marL="1828800" indent="766800" algn="ctr">
              <a:spcBef>
                <a:spcPts val="499"/>
              </a:spcBef>
              <a:buClr>
                <a:srgbClr val="006634"/>
              </a:buClr>
              <a:buSzPct val="80000"/>
              <a:buFont typeface="OptimaCE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C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lvl="5" marL="1828800" indent="766800">
              <a:spcBef>
                <a:spcPts val="499"/>
              </a:spcBef>
              <a:buClr>
                <a:srgbClr val="000000"/>
              </a:buClr>
              <a:buSzPct val="80000"/>
              <a:buFont typeface="Optim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C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lvl="6" marL="1828800" indent="766800">
              <a:spcBef>
                <a:spcPts val="499"/>
              </a:spcBef>
              <a:buClr>
                <a:srgbClr val="000000"/>
              </a:buClr>
              <a:buSzPct val="80000"/>
              <a:buFont typeface="Optim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C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j.szlezak@rec.org" TargetMode="External"/><Relationship Id="rId2" Type="http://schemas.openxmlformats.org/officeDocument/2006/relationships/hyperlink" Target="http://www.rec.org/" TargetMode="External"/><Relationship Id="rId3" Type="http://schemas.openxmlformats.org/officeDocument/2006/relationships/hyperlink" Target="http://www.rec.org/" TargetMode="External"/><Relationship Id="rId4" Type="http://schemas.openxmlformats.org/officeDocument/2006/relationships/hyperlink" Target="http://waste.eionet.eu.int/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4720" y="1074240"/>
            <a:ext cx="7848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34"/>
                </a:solidFill>
                <a:latin typeface="Garamond"/>
              </a:rPr>
              <a:t>Waste prevention activities in the European Environmental Agency’s Topic Centre on Resource and Waste Management (ETC/RWM)</a:t>
            </a:r>
            <a:r>
              <a:rPr b="1" lang="en-GB" sz="3200" spc="-1" strike="noStrike">
                <a:solidFill>
                  <a:srgbClr val="006634"/>
                </a:solidFill>
                <a:latin typeface="OptimaCE"/>
              </a:rPr>
              <a:t> </a:t>
            </a:r>
            <a:endParaRPr b="1" lang="en-US" sz="32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71480" y="2846160"/>
            <a:ext cx="7848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34"/>
                </a:solidFill>
                <a:latin typeface="Garamond"/>
              </a:rPr>
              <a:t>Presentation of</a:t>
            </a:r>
            <a:endParaRPr b="0" lang="en-US" sz="2200" spc="-1" strike="noStrike">
              <a:solidFill>
                <a:srgbClr val="006634"/>
              </a:solidFill>
              <a:latin typeface="OptimaC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6634"/>
                </a:solidFill>
                <a:latin typeface="Garamond"/>
              </a:rPr>
              <a:t>t</a:t>
            </a:r>
            <a:r>
              <a:rPr b="1" lang="en-GB" sz="2200" spc="-1" strike="noStrike">
                <a:solidFill>
                  <a:srgbClr val="006634"/>
                </a:solidFill>
                <a:latin typeface="Garamond"/>
              </a:rPr>
              <a:t>he Regional Environmental Center</a:t>
            </a:r>
            <a:r>
              <a:rPr b="1" lang="hu-HU" sz="2200" spc="-1" strike="noStrike">
                <a:solidFill>
                  <a:srgbClr val="006634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6634"/>
                </a:solidFill>
                <a:latin typeface="Garamond"/>
              </a:rPr>
              <a:t>for</a:t>
            </a:r>
            <a:br>
              <a:rPr sz="2200"/>
            </a:br>
            <a:r>
              <a:rPr b="1" lang="en-GB" sz="2200" spc="-1" strike="noStrike">
                <a:solidFill>
                  <a:srgbClr val="006634"/>
                </a:solidFill>
                <a:latin typeface="Garamond"/>
              </a:rPr>
              <a:t>Central and Eastern Europe</a:t>
            </a:r>
            <a:endParaRPr b="0" lang="en-US" sz="22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801360" y="4371120"/>
            <a:ext cx="74674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József Szlezák, Proje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Business and Environment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9 Jun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92720" y="2774880"/>
            <a:ext cx="152424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7520" y="0"/>
            <a:ext cx="860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34"/>
                </a:solidFill>
                <a:latin typeface="Garamond"/>
              </a:rPr>
              <a:t>Economic Instruments in Policies Addressing Resource Use</a:t>
            </a:r>
            <a:endParaRPr b="1" lang="en-US" sz="25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0600" y="661680"/>
            <a:ext cx="857736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Objective: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Ex-post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evaluation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of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selected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 economic instruments’ effectiveness and efficiency in resource management</a:t>
            </a:r>
            <a:endParaRPr b="0" lang="en-US" sz="2200" spc="-1" strike="noStrike">
              <a:solidFill>
                <a:srgbClr val="000000"/>
              </a:solidFill>
              <a:latin typeface="OptimaCE"/>
            </a:endParaRPr>
          </a:p>
          <a:p>
            <a:pPr marL="90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Output (2005):</a:t>
            </a:r>
            <a:r>
              <a:rPr b="0" lang="hu-HU" sz="2800" spc="-1" strike="noStrike">
                <a:solidFill>
                  <a:srgbClr val="000000"/>
                </a:solidFill>
                <a:latin typeface="OptimaCE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Garamond"/>
              </a:rPr>
              <a:t>selected instruments &amp; data,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methodology </a:t>
            </a:r>
            <a:r>
              <a:rPr b="0" lang="hu-HU" sz="2200" spc="-1" strike="noStrike">
                <a:solidFill>
                  <a:srgbClr val="000000"/>
                </a:solidFill>
                <a:latin typeface="Garamond"/>
              </a:rPr>
              <a:t>for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assessment</a:t>
            </a:r>
            <a:endParaRPr b="0" lang="en-US" sz="22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72040" y="5008680"/>
            <a:ext cx="38959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Garamond"/>
              </a:rPr>
              <a:t>Current 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6634"/>
              </a:buClr>
              <a:buSzPct val="12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information </a:t>
            </a:r>
            <a:r>
              <a:rPr b="0" lang="hu-HU" sz="18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 data stru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and acqui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analysis of 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4800" y="2324160"/>
            <a:ext cx="6082920" cy="3510000"/>
            <a:chOff x="604800" y="2324160"/>
            <a:chExt cx="6082920" cy="3510000"/>
          </a:xfrm>
        </p:grpSpPr>
        <p:sp>
          <p:nvSpPr>
            <p:cNvPr id="121" name=""/>
            <p:cNvSpPr/>
            <p:nvPr/>
          </p:nvSpPr>
          <p:spPr>
            <a:xfrm>
              <a:off x="4933080" y="3377160"/>
              <a:ext cx="1754640" cy="70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Garamond"/>
                </a:rPr>
                <a:t>Economic Instrumen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Garamond"/>
                </a:rPr>
                <a:t>We are anywhere here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04800" y="2324160"/>
              <a:ext cx="5029560" cy="3510000"/>
              <a:chOff x="604800" y="2324160"/>
              <a:chExt cx="5029560" cy="351000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4800" y="2792160"/>
                <a:ext cx="4210560" cy="304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838440" y="2324160"/>
                <a:ext cx="4679280" cy="351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Garamond"/>
                  </a:rPr>
                  <a:t>How do Incentive Based Instruments affect the cycl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3178440" y="3260160"/>
                <a:ext cx="1754640" cy="2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4698720" y="3845160"/>
                <a:ext cx="23364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464720" y="4196160"/>
                <a:ext cx="1169640" cy="11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008080" y="4196160"/>
                <a:ext cx="3275640" cy="10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890720" y="3728160"/>
                <a:ext cx="2924640" cy="2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1422360" y="3259800"/>
                <a:ext cx="339228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86600" y="4297320"/>
            <a:ext cx="1501920" cy="51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202520" y="3106800"/>
            <a:ext cx="129852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14120"/>
            <a:ext cx="86043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34"/>
                </a:solidFill>
                <a:latin typeface="Garamond"/>
              </a:rPr>
              <a:t>Development of reporting format on the implementation of </a:t>
            </a:r>
            <a:r>
              <a:rPr b="1" lang="en-GB" sz="2600" spc="-1" strike="noStrike">
                <a:solidFill>
                  <a:srgbClr val="006634"/>
                </a:solidFill>
                <a:latin typeface="Garamond"/>
              </a:rPr>
              <a:t>Integrated Product Policy</a:t>
            </a:r>
            <a:r>
              <a:rPr b="0" lang="en-GB" sz="2600" spc="-1" strike="noStrike">
                <a:solidFill>
                  <a:srgbClr val="006634"/>
                </a:solidFill>
                <a:latin typeface="Garamond"/>
              </a:rPr>
              <a:t> in the Member States</a:t>
            </a:r>
            <a:endParaRPr b="1" lang="en-US" sz="2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1720" y="1098720"/>
            <a:ext cx="835344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828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Garamond"/>
              </a:rPr>
              <a:t>Objective: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Garamond"/>
              </a:rPr>
              <a:t>To support the Commission in 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reporting on the implementation of Integrated Product Policy (IPP) in the Member States.</a:t>
            </a:r>
            <a:endParaRPr b="0" lang="en-US" sz="2100" spc="-1" strike="noStrike">
              <a:solidFill>
                <a:srgbClr val="000000"/>
              </a:solidFill>
              <a:latin typeface="OptimaCE"/>
            </a:endParaRPr>
          </a:p>
          <a:p>
            <a:pPr marL="828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Output: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 Methodology</a:t>
            </a:r>
            <a:r>
              <a:rPr b="0" lang="en-GB" sz="2100" spc="-1" strike="noStrike">
                <a:solidFill>
                  <a:srgbClr val="000000"/>
                </a:solidFill>
                <a:latin typeface="Garamond"/>
              </a:rPr>
              <a:t> for information collection, 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stakeholder questionnaire</a:t>
            </a:r>
            <a:r>
              <a:rPr b="0" lang="en-GB" sz="2100" spc="-1" strike="noStrike">
                <a:solidFill>
                  <a:srgbClr val="000000"/>
                </a:solidFill>
                <a:latin typeface="Garamond"/>
              </a:rPr>
              <a:t> (2005 - 2006 Q1); 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Report</a:t>
            </a:r>
            <a:r>
              <a:rPr b="0" lang="en-GB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Garamond"/>
              </a:rPr>
              <a:t>to the EP</a:t>
            </a:r>
            <a:r>
              <a:rPr b="0" lang="en-GB" sz="2100" spc="-1" strike="noStrike">
                <a:solidFill>
                  <a:srgbClr val="000000"/>
                </a:solidFill>
                <a:latin typeface="Garamond"/>
              </a:rPr>
              <a:t> (2007) </a:t>
            </a:r>
            <a:endParaRPr b="0" lang="en-US" sz="2100" spc="-1" strike="noStrike">
              <a:solidFill>
                <a:srgbClr val="000000"/>
              </a:solidFill>
              <a:latin typeface="OptimaCE"/>
            </a:endParaRPr>
          </a:p>
          <a:p>
            <a:pPr marL="8280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Garamond"/>
              </a:rPr>
              <a:t>What is IPP?</a:t>
            </a:r>
            <a:endParaRPr b="0" lang="en-US" sz="2200" spc="-1" strike="noStrike">
              <a:solidFill>
                <a:srgbClr val="000000"/>
              </a:solidFill>
              <a:latin typeface="OptimaCE"/>
            </a:endParaRPr>
          </a:p>
          <a:p>
            <a:pPr marL="82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Integrated…</a:t>
            </a:r>
            <a:endParaRPr b="0" lang="en-US" sz="2200" spc="-1" strike="noStrike">
              <a:solidFill>
                <a:srgbClr val="000000"/>
              </a:solidFill>
              <a:latin typeface="OptimaCE"/>
            </a:endParaRPr>
          </a:p>
          <a:p>
            <a:pPr marL="82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Garamond"/>
              </a:rPr>
              <a:t>Refers to the consideration of the whole life cycle of products as well as to a broad approach integrating various instruments aimed at the greening of products</a:t>
            </a:r>
            <a:endParaRPr b="0" lang="en-US" sz="2100" spc="-1" strike="noStrike">
              <a:solidFill>
                <a:srgbClr val="000000"/>
              </a:solidFill>
              <a:latin typeface="OptimaCE"/>
            </a:endParaRPr>
          </a:p>
          <a:p>
            <a:pPr marL="82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Product…</a:t>
            </a:r>
            <a:endParaRPr b="0" lang="en-US" sz="2200" spc="-1" strike="noStrike">
              <a:solidFill>
                <a:srgbClr val="000000"/>
              </a:solidFill>
              <a:latin typeface="OptimaCE"/>
            </a:endParaRPr>
          </a:p>
          <a:p>
            <a:pPr marL="82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Garamond"/>
              </a:rPr>
              <a:t>All products and services are included, though action might focus on certain products (impact)</a:t>
            </a:r>
            <a:endParaRPr b="0" lang="en-US" sz="2100" spc="-1" strike="noStrike">
              <a:solidFill>
                <a:srgbClr val="000000"/>
              </a:solidFill>
              <a:latin typeface="OptimaCE"/>
            </a:endParaRPr>
          </a:p>
          <a:p>
            <a:pPr marL="82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OptimaCE"/>
            </a:endParaRPr>
          </a:p>
          <a:p>
            <a:pPr marL="82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34"/>
                </a:solidFill>
                <a:latin typeface="Garamond"/>
              </a:rPr>
              <a:t>Development of reporting format on the implementation of </a:t>
            </a:r>
            <a:r>
              <a:rPr b="1" lang="en-GB" sz="2600" spc="-1" strike="noStrike">
                <a:solidFill>
                  <a:srgbClr val="006634"/>
                </a:solidFill>
                <a:latin typeface="Garamond"/>
              </a:rPr>
              <a:t>Integrated Product Policy</a:t>
            </a:r>
            <a:r>
              <a:rPr b="0" lang="en-GB" sz="2600" spc="-1" strike="noStrike">
                <a:solidFill>
                  <a:srgbClr val="006634"/>
                </a:solidFill>
                <a:latin typeface="Garamond"/>
              </a:rPr>
              <a:t> in the Member States</a:t>
            </a:r>
            <a:endParaRPr b="1" lang="en-US" sz="2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4400" y="1176480"/>
          <a:ext cx="8382240" cy="5543280"/>
        </p:xfrm>
        <a:graphic>
          <a:graphicData uri="http://schemas.openxmlformats.org/drawingml/2006/table">
            <a:tbl>
              <a:tblPr/>
              <a:tblGrid>
                <a:gridCol w="4508640"/>
                <a:gridCol w="3873600"/>
              </a:tblGrid>
              <a:tr h="200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hu-HU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hu-HU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hu-HU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…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i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t should focus on setting the main objectives and providing the different stakeholders with the means and incentives to achieve these objectiv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incipl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→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fe-Cycle Thin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→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orking with the 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→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akeholder Invol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→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inuous Impro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→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ariety of Policy Instru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akeholder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→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vern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→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dus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→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umer Organisations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nd Consu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→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nvironmental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rganis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34"/>
                </a:solidFill>
                <a:latin typeface="Garamond"/>
              </a:rPr>
              <a:t>Development of reporting format on the implementation of </a:t>
            </a:r>
            <a:r>
              <a:rPr b="1" lang="en-GB" sz="2800" spc="-1" strike="noStrike">
                <a:solidFill>
                  <a:srgbClr val="006634"/>
                </a:solidFill>
                <a:latin typeface="Garamond"/>
              </a:rPr>
              <a:t>Integrated Product Policy</a:t>
            </a:r>
            <a:r>
              <a:rPr b="0" lang="en-GB" sz="2800" spc="-1" strike="noStrike">
                <a:solidFill>
                  <a:srgbClr val="006634"/>
                </a:solidFill>
                <a:latin typeface="Garamond"/>
              </a:rPr>
              <a:t> in the Member States</a:t>
            </a:r>
            <a:endParaRPr b="1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140" name=""/>
          <p:cNvSpPr/>
          <p:nvPr/>
        </p:nvSpPr>
        <p:spPr>
          <a:xfrm>
            <a:off x="2206800" y="3341520"/>
            <a:ext cx="539640" cy="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0560" y="1360440"/>
            <a:ext cx="6916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0400" y="1233360"/>
            <a:ext cx="7705800" cy="37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Structure of Repor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Environmental Policy Measures Aimed at Creating the Right </a:t>
            </a: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Economic- and Legal Framewo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Research and Development Policy Framewo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The Supporting Institutional Framewo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Other Policy Frameworks Promoting the Application of Life-</a:t>
            </a: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Cycle Thinking and Ensuring the Availability of Information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34"/>
                </a:solidFill>
                <a:latin typeface="Garamond"/>
              </a:rPr>
              <a:t>Assessment of the applicability of substance/material flow analysis (SFA) on macroeconomic level</a:t>
            </a:r>
            <a:endParaRPr b="1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Objective: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pplicability analysis for using the SFA methodology for monitoring and prediction of macroeconomic (nation and EU-wide) flows of chemical substances and products, to track policy relevant chemical groups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874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Output (2005):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A study including summary on available methodologies, limitations and cost estimates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874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Relevance: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SFA provides useful information for waste policies, including prevention (hazardous substances) and recycling potential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87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8080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34"/>
                </a:solidFill>
                <a:latin typeface="Garamond"/>
              </a:rPr>
              <a:t>Thank you for your attention!</a:t>
            </a:r>
            <a:endParaRPr b="1" lang="en-US" sz="3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</p:txBody>
      </p:sp>
      <p:sp>
        <p:nvSpPr>
          <p:cNvPr id="147" name=""/>
          <p:cNvSpPr/>
          <p:nvPr/>
        </p:nvSpPr>
        <p:spPr>
          <a:xfrm>
            <a:off x="1015920" y="1365120"/>
            <a:ext cx="77281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József Szle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Garamond"/>
              </a:rPr>
              <a:t>The Regional Environmental Center for Central and Easter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Garamond"/>
              </a:rPr>
              <a:t>Business and Environment Prog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Tel.: +36-26-504-000 / 3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E-mail: </a:t>
            </a:r>
            <a:r>
              <a:rPr b="0" lang="en-GB" sz="2400" spc="-1" strike="noStrike" u="sng">
                <a:solidFill>
                  <a:srgbClr val="990033"/>
                </a:solidFill>
                <a:uFillTx/>
                <a:latin typeface="Garamond"/>
                <a:hlinkClick r:id="rId1"/>
              </a:rPr>
              <a:t>j.szlezak@re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Web: </a:t>
            </a:r>
            <a:r>
              <a:rPr b="0" lang="en-GB" sz="2400" spc="-1" strike="noStrike" u="sng">
                <a:solidFill>
                  <a:srgbClr val="990033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990033"/>
                </a:solidFill>
                <a:uFillTx/>
                <a:latin typeface="Garamond"/>
                <a:hlinkClick r:id="rId3"/>
              </a:rPr>
              <a:t>www.rec.org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&amp; </a:t>
            </a:r>
            <a:r>
              <a:rPr b="0" lang="en-GB" sz="2400" spc="-1" strike="noStrike" u="sng">
                <a:solidFill>
                  <a:srgbClr val="990033"/>
                </a:solidFill>
                <a:uFillTx/>
                <a:latin typeface="Garamond"/>
                <a:hlinkClick r:id="rId4"/>
              </a:rPr>
              <a:t>http://waste.eionet.eu.in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415200" y="3303720"/>
            <a:ext cx="194760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34"/>
                </a:solidFill>
                <a:latin typeface="Garamond"/>
              </a:rPr>
              <a:t>The EEA in Brief</a:t>
            </a:r>
            <a:endParaRPr b="1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86" name=""/>
          <p:cNvSpPr/>
          <p:nvPr/>
        </p:nvSpPr>
        <p:spPr>
          <a:xfrm>
            <a:off x="1566720" y="2014560"/>
            <a:ext cx="2400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46120" y="1042920"/>
          <a:ext cx="8321760" cy="5038920"/>
        </p:xfrm>
        <a:graphic>
          <a:graphicData uri="http://schemas.openxmlformats.org/drawingml/2006/table">
            <a:tbl>
              <a:tblPr/>
              <a:tblGrid>
                <a:gridCol w="5988240"/>
                <a:gridCol w="2333520"/>
              </a:tblGrid>
              <a:tr h="455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74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s dedicated to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viding sound, independent information on the environm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  It is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 major information 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for those involved in developing, adopting, implementing and evaluating environmental policy, and also the general publ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7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arted its operation in 1994 in Copenhagen, Denmark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(was established in 1990 by a Council regulation of the 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74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mber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74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•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e 25 European Union Membe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ate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ree EU Candidate Countrie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— Bulgaria, Romania and 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74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•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celand, Norway and Liechtenstein, which are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mbers of th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uropean Economic Area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0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874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•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 membership agreement has been initialled with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witz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74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llaborating Countrie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: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st Balkan Countrie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(Albania, Bosnia and Herzegovina, Croatia, the former Yugoslav Republic of Macedonia, and Serbia and Montenegr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74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64400" y="1424160"/>
            <a:ext cx="1965240" cy="29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544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34"/>
                </a:solidFill>
                <a:latin typeface="Garamond"/>
              </a:rPr>
              <a:t>The EEA Topic Centres in Brief</a:t>
            </a:r>
            <a:endParaRPr b="1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8200" y="976320"/>
            <a:ext cx="835344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•</a:t>
            </a: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What is a European Topic Centre (ETC)?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ETCs are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nstitutions / organisations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contracted by the EEA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to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execute tasks identified in the multi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annual work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programme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.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hey are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designated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by the management board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after a competitive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expertise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capacity selection process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indent="0" algn="just">
              <a:lnSpc>
                <a:spcPct val="90000"/>
              </a:lnSpc>
              <a:spcBef>
                <a:spcPts val="1749"/>
              </a:spcBef>
              <a:spcAft>
                <a:spcPts val="524"/>
              </a:spcAft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•</a:t>
            </a: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The five ETCs of the EEA: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- on Air and Climate Change (ETC/ACC)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- on Bilological Diversity (ETC/BD)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Garamond"/>
              </a:rPr>
              <a:t>- on Resource and Waste Management (ETC/RWM)</a:t>
            </a:r>
            <a:endParaRPr b="0" lang="en-US" sz="2700" spc="-1" strike="noStrike">
              <a:solidFill>
                <a:srgbClr val="000000"/>
              </a:solidFill>
              <a:latin typeface="OptimaC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- on Terrestrial Environment (ETC/TE)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- on Water (ETC/WTR)  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34"/>
                </a:solidFill>
                <a:latin typeface="Garamond"/>
              </a:rPr>
              <a:t>The ETC on Resource and Waste Management</a:t>
            </a:r>
            <a:endParaRPr b="1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993240"/>
            <a:ext cx="8353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372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Brief history: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333720"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•  „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Topic Centre on Waste”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(established in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1997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marL="333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OptimaCE"/>
            </a:endParaRPr>
          </a:p>
          <a:p>
            <a:pPr marL="333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en-GB" sz="29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1" lang="en-GB" sz="2900" spc="-1" strike="noStrike">
                <a:solidFill>
                  <a:srgbClr val="000000"/>
                </a:solidFill>
                <a:latin typeface="Garamond"/>
              </a:rPr>
              <a:t>Topic Centre on Waste and Material Flows”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(renamed in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2001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ndicating its changing focus)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marL="333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OptimaCE"/>
            </a:endParaRPr>
          </a:p>
          <a:p>
            <a:pPr marL="333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•  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Topic Centre on Resource and Waste Management”</a:t>
            </a:r>
            <a:r>
              <a:rPr b="1" lang="hu-H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Garamond"/>
              </a:rPr>
              <a:t>(f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om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January 2005</a:t>
            </a: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marL="333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41400" y="5051520"/>
          <a:ext cx="7419960" cy="1350720"/>
        </p:xfrm>
        <a:graphic>
          <a:graphicData uri="http://schemas.openxmlformats.org/drawingml/2006/table">
            <a:tbl>
              <a:tblPr/>
              <a:tblGrid>
                <a:gridCol w="658800"/>
                <a:gridCol w="6761160"/>
              </a:tblGrid>
              <a:tr h="19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5400" spc="-1" strike="noStrike">
                          <a:solidFill>
                            <a:srgbClr val="000000"/>
                          </a:solidFill>
                          <a:latin typeface="OptimaCE"/>
                        </a:rPr>
                        <a:t>!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source </a:t>
                      </a:r>
                      <a:r>
                        <a:rPr b="1" lang="hu-HU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nagement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s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an integral part of the evaluation of waste policies and practic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0080" y="588600"/>
            <a:ext cx="8683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34"/>
                </a:solidFill>
                <a:latin typeface="Garamond"/>
              </a:rPr>
              <a:t>What are we talking about?</a:t>
            </a:r>
            <a:br>
              <a:rPr sz="2800"/>
            </a:br>
            <a:endParaRPr b="1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2360" y="995040"/>
            <a:ext cx="835344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Waste prevention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ccording to the ETC/RWM: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.. means any change in the design, manufacturing, purchase, or use of materials or products (including packaging) to reduce their level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r toxicity before they become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waste. Also refers to the reuse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f products or materials.”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Dematerialisation – Detoxification</a:t>
            </a:r>
            <a:endParaRPr b="0" lang="en-US" sz="2800" spc="-1" strike="noStrike">
              <a:solidFill>
                <a:srgbClr val="000000"/>
              </a:solidFill>
              <a:latin typeface="OptimaC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80240" y="2863800"/>
            <a:ext cx="182880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34"/>
                </a:solidFill>
                <a:latin typeface="Garamond"/>
              </a:rPr>
              <a:t>Recent ETC Activities Related to Waste Prevention</a:t>
            </a:r>
            <a:endParaRPr b="1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968040"/>
            <a:ext cx="835344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1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Documenting waste minimisation practices: collection of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success stories on waste prevention in the EEA member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countries” (2003)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This study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focuses on waste prevention and recycling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, covering five 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themes: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marL="84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•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producer responsibility - voluntary agreements - legislative 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requirements - information programmes - waste taxes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• 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includes ten case studies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 on successful applications in order to encourage 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waste minimisation practices in EEA countries 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marL="8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Zero-study: a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ajor contribution to the development of the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EU’s </a:t>
            </a:r>
            <a:r>
              <a:rPr b="1" lang="en-GB" sz="2600" spc="-1" strike="noStrike">
                <a:solidFill>
                  <a:srgbClr val="000000"/>
                </a:solidFill>
                <a:latin typeface="Garamond"/>
              </a:rPr>
              <a:t>„Thematic strategy on the sustainable use of </a:t>
            </a:r>
            <a:r>
              <a:rPr b="1" lang="hu-HU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Garamond"/>
              </a:rPr>
              <a:t>natural</a:t>
            </a:r>
            <a:r>
              <a:rPr b="1" lang="hu-HU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Garamond"/>
              </a:rPr>
              <a:t>resources”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(2003)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The study </a:t>
            </a: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gives an estimate of materials and waste streams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 in the 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Community and is called the Zero-study because it is the first of several 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tudies to support the strategy.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marL="84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Both reports are available at: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Garamond"/>
              </a:rPr>
              <a:t>http://reports.eea.eu.int/</a:t>
            </a: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74240"/>
            <a:ext cx="86043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34"/>
                </a:solidFill>
                <a:latin typeface="Garamond"/>
              </a:rPr>
              <a:t>ETC/RWM Activities started in 2005</a:t>
            </a:r>
            <a:endParaRPr b="1" lang="en-US" sz="28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954000"/>
            <a:ext cx="83534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There are 31 sub-projects in the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nnual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Work P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lan for 2005 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26712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→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Four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specific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examples where the REC is involved: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267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•</a:t>
            </a: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Evaluation of shift in waste management from land filling and incineration towards prevention/recycling/recovery</a:t>
            </a:r>
            <a:endParaRPr b="0" lang="en-US" sz="2300" spc="-1" strike="noStrike">
              <a:solidFill>
                <a:srgbClr val="000000"/>
              </a:solidFill>
              <a:latin typeface="OptimaCE"/>
            </a:endParaRPr>
          </a:p>
          <a:p>
            <a:pPr marL="267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•</a:t>
            </a: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Use of economic instruments in policies addressing resource use</a:t>
            </a:r>
            <a:endParaRPr b="0" lang="en-US" sz="2300" spc="-1" strike="noStrike">
              <a:solidFill>
                <a:srgbClr val="000000"/>
              </a:solidFill>
              <a:latin typeface="OptimaCE"/>
            </a:endParaRPr>
          </a:p>
          <a:p>
            <a:pPr marL="267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•</a:t>
            </a: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Support to the reporting </a:t>
            </a: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on the implementation of Integrated Product Policy </a:t>
            </a: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(IPP) </a:t>
            </a: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in the Member States</a:t>
            </a:r>
            <a:r>
              <a:rPr b="0" lang="hu-HU" sz="2300" spc="-1" strike="noStrike">
                <a:solidFill>
                  <a:srgbClr val="000000"/>
                </a:solidFill>
                <a:latin typeface="Garamond"/>
              </a:rPr>
              <a:t> (development of a reporting format)</a:t>
            </a:r>
            <a:endParaRPr b="0" lang="en-US" sz="2300" spc="-1" strike="noStrike">
              <a:solidFill>
                <a:srgbClr val="000000"/>
              </a:solidFill>
              <a:latin typeface="OptimaCE"/>
            </a:endParaRPr>
          </a:p>
          <a:p>
            <a:pPr marL="267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•</a:t>
            </a: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300" spc="-1" strike="noStrike">
                <a:solidFill>
                  <a:srgbClr val="000000"/>
                </a:solidFill>
                <a:latin typeface="Garamond"/>
              </a:rPr>
              <a:t>Assessment of t</a:t>
            </a:r>
            <a:r>
              <a:rPr b="1" lang="en-GB" sz="2300" spc="-1" strike="noStrike">
                <a:solidFill>
                  <a:srgbClr val="000000"/>
                </a:solidFill>
                <a:latin typeface="Garamond"/>
              </a:rPr>
              <a:t>he applicability of substance/material flow analysis (SFA) on macroeconomic level</a:t>
            </a:r>
            <a:r>
              <a:rPr b="0" lang="hu-HU" sz="23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Optim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752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34"/>
                </a:solidFill>
                <a:latin typeface="Garamond"/>
              </a:rPr>
              <a:t>Evaluation of Shift in Waste Management from Landfilling and Incineration Towards Prevention / Recycling / Recovery</a:t>
            </a:r>
            <a:endParaRPr b="1" lang="en-US" sz="2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995040"/>
            <a:ext cx="8310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Objective:</a:t>
            </a:r>
            <a:r>
              <a:rPr b="1" lang="hu-HU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Ex</a:t>
            </a:r>
            <a:r>
              <a:rPr b="0" lang="hu-HU" sz="22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post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evaluation of the Landfill and Incineration</a:t>
            </a: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Directives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Garamond"/>
              </a:rPr>
              <a:t>in light of their contribution to an increase of recycling, recovery and waste prevention</a:t>
            </a:r>
            <a:r>
              <a:rPr b="0" lang="en-GB" sz="2200" spc="-1" strike="noStrike">
                <a:solidFill>
                  <a:srgbClr val="000000"/>
                </a:solidFill>
                <a:latin typeface="Garamond"/>
              </a:rPr>
              <a:t>, and their support to the EU waste management hierarchy in general</a:t>
            </a:r>
            <a:r>
              <a:rPr b="0" lang="hu-HU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OptimaCE"/>
            </a:endParaRPr>
          </a:p>
          <a:p>
            <a:pPr marL="90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OptimaC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07400" y="4815000"/>
            <a:ext cx="1501560" cy="51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122960" y="3624120"/>
            <a:ext cx="1298880" cy="1036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282760" y="322884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34920" y="3116160"/>
            <a:ext cx="1251000" cy="851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aramond"/>
              </a:rPr>
              <a:t>We are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aramond"/>
              </a:rPr>
              <a:t>Incineration and Landfill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2880" y="3379680"/>
            <a:ext cx="2984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3657600"/>
            <a:ext cx="685800" cy="10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22480" y="3608280"/>
            <a:ext cx="10288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8200" y="2705040"/>
            <a:ext cx="2799000" cy="514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How Command and Control Instruments Affect the cycl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34"/>
                </a:solidFill>
                <a:latin typeface="Garamond"/>
              </a:rPr>
              <a:t>Evaluation of Shift in Waste Management from Landfilling and Incineration Towards Prevention / Recycling / Recovery</a:t>
            </a:r>
            <a:endParaRPr b="1" lang="en-US" sz="2600" spc="-1" strike="noStrike">
              <a:solidFill>
                <a:srgbClr val="006634"/>
              </a:solidFill>
              <a:latin typeface="Optima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Output (2005):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methodology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for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Current Status: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nformation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data structuring and acquisition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nalysis of information </a:t>
            </a: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  <a:p>
            <a:pPr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C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91000" y="3720960"/>
            <a:ext cx="1579320" cy="1756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8720" y="4105440"/>
            <a:ext cx="177624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230880" y="3935520"/>
            <a:ext cx="1136880" cy="102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728640" y="3578400"/>
          <a:ext cx="7807320" cy="2893680"/>
        </p:xfrm>
        <a:graphic>
          <a:graphicData uri="http://schemas.openxmlformats.org/drawingml/2006/table">
            <a:tbl>
              <a:tblPr/>
              <a:tblGrid>
                <a:gridCol w="1917720"/>
                <a:gridCol w="852480"/>
                <a:gridCol w="1828800"/>
                <a:gridCol w="949320"/>
                <a:gridCol w="1292400"/>
                <a:gridCol w="966600"/>
              </a:tblGrid>
              <a:tr h="28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4400" spc="-1" strike="noStrike">
                          <a:solidFill>
                            <a:srgbClr val="000000"/>
                          </a:solidFill>
                          <a:latin typeface="OptimaCE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4400" spc="-1" strike="noStrike">
                          <a:solidFill>
                            <a:srgbClr val="000000"/>
                          </a:solidFill>
                          <a:latin typeface="OptimaCE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4400" spc="-1" strike="noStrike">
                          <a:solidFill>
                            <a:srgbClr val="000000"/>
                          </a:solidFill>
                          <a:latin typeface="OptimaCE"/>
                        </a:rPr>
                        <a:t>!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08:46:48Z</dcterms:created>
  <dc:creator>jozsef</dc:creator>
  <dc:description/>
  <dc:language>en-US</dc:language>
  <cp:lastModifiedBy>jozsef</cp:lastModifiedBy>
  <cp:lastPrinted>2001-06-27T09:31:25Z</cp:lastPrinted>
  <dcterms:modified xsi:type="dcterms:W3CDTF">2005-06-09T06:49:56Z</dcterms:modified>
  <cp:revision>11</cp:revision>
  <dc:subject/>
  <dc:title>Waste prevention activities in the European Environmental Agency’s Topic Centre on Resource and Waste Management (ETC/RWM) </dc:title>
</cp:coreProperties>
</file>