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323-250D-4190-AB74-BAEF780E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D50-A4BE-4AB1-9982-6011B83D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9BF-F066-496C-AB25-1A5E093B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9E1-BC64-4457-B8FF-BF9143D8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0DD7-103F-43EE-9BFE-6E7EB59F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141F-7599-42C9-B2FB-F30A15B6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AD49-0D1E-4C5B-8194-75802DD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41B5-CB6D-4F40-B08F-4C634886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AD3F-38FF-467D-9EBB-00A3107E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DFB5-EDB7-4C13-93C9-1F045DAE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1593-1D86-4157-90CA-CA8E15F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515-2103-42DC-B38D-35472EDD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D49D-7BA3-477A-9834-E95BB85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425F-9DA2-4E24-8E1E-BDA25C2C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D938-68E5-4521-A515-97E7BC13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3D3D-CBE8-4864-B1F5-87C0AA16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214-D2FF-4EBC-A4B1-33FCCF0F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1B3-891A-42B7-B5F5-26680B5F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45F-899C-4DC5-A775-D433B15C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4EA-A0FD-4176-8986-44DD997F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CA0-9E34-45DE-A778-D2CFA02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8C1-610F-42DD-B4F7-8ABB01C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E75-F88B-4D5E-969C-2167FEB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10F-02EB-4389-AA87-246ED239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6311-AEC0-44C2-9736-49149AD4A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E61A-5186-4FA7-9F53-414C6BFA58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99"/>
                </a:solidFill>
                <a:latin typeface="Tahoma"/>
              </a:rPr>
              <a:t>Az a kincs, ami nincs</a:t>
            </a:r>
            <a:br>
              <a:rPr sz="4800"/>
            </a:br>
            <a:r>
              <a:rPr b="1" lang="hu-HU" sz="4800" spc="-1" strike="noStrike">
                <a:solidFill>
                  <a:srgbClr val="333399"/>
                </a:solidFill>
                <a:latin typeface="Tahoma"/>
              </a:rPr>
              <a:t>No Waste Is Good Waste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733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emzetközi hulladékmegelőzési konfer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Budapest, 2005. június 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HARE ACCESS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mogatásá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5638680"/>
            <a:ext cx="1395360" cy="938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1371600" cy="9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038480" y="304920"/>
            <a:ext cx="13654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je tetejéről a talpá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egelőzés súlytalan  a hulladékgazdálkodásb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emzeti Fejlesztési Terv 2004-2006 Környezetvédelmi és Infrastruktúra Operatív Program (KIOP) hivatkozik a hulladékmegelőzésre, mint EU prioritásra, de intézkedést nem rendelt hozz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Regionális hulladékgazdálkodási tervek nem tartalmaznak megelőzésre vonatkozó elképzeléseket (200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z a kincs, ami nincs”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UMUSZ siker: PHARE ACCESS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Szakmai áttekintő anyago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elyzetelemz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kitekin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Javaslatok hulladékmegelőzési stratégiá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7 regionális műhelymunka + 1 szlovén műhelymunka (UMANOTE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agyar-szlovén tanulmányú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emzetközi hulladékmegelőzési konfer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99"/>
                </a:solidFill>
                <a:latin typeface="Tahoma"/>
              </a:rPr>
              <a:t>Az a kincs, ami nincs</a:t>
            </a:r>
            <a:br>
              <a:rPr sz="4800"/>
            </a:br>
            <a:r>
              <a:rPr b="1" lang="hu-HU" sz="4800" spc="-1" strike="noStrike">
                <a:solidFill>
                  <a:srgbClr val="333399"/>
                </a:solidFill>
                <a:latin typeface="Tahoma"/>
              </a:rPr>
              <a:t>No Waste Is Good Waste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120" y="3733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emzetközi hulladékmegelőzési konfer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Budapest, 2005. június 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HARE ACCESS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támogatásá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5638680"/>
            <a:ext cx="1395360" cy="938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137160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038480" y="304920"/>
            <a:ext cx="13654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2:05:48Z</dcterms:created>
  <dc:creator>Karas László</dc:creator>
  <dc:description/>
  <dc:language>en-US</dc:language>
  <cp:lastModifiedBy>HUMUSZ</cp:lastModifiedBy>
  <dcterms:modified xsi:type="dcterms:W3CDTF">2005-06-09T07:25:49Z</dcterms:modified>
  <cp:revision>7</cp:revision>
  <dc:subject/>
  <dc:title>Az a kincs, ami nincs </dc:title>
</cp:coreProperties>
</file>