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FEF2-B0BD-493C-84ED-C785D298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53D-F574-4337-A2C7-FF12AFD5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B95-CC2E-4C32-8B54-EA465E12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069-1760-44E7-8AB3-266A6051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5DBC-9CDA-4629-ACA6-A4891F6B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77AE-803B-4110-9860-6C8AF64E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9EE4-59CE-45A3-A0F3-5BC04714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20B6-7E1F-42BE-98D6-2CF529DB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5624-0D58-4BD2-B0CA-20E3BFB2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CD6-6CD9-44BD-A08B-88B192E7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017-44F0-4FA9-848E-F36D67E5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F925-0106-4A7A-90B5-B37E3610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4BEA-E7A2-4B3C-A8BD-0BB90CC87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Garamond"/>
              </a:rPr>
              <a:t>A hulladékkeletkezés megelőzésének lehetőségei a magyar gazdaságban</a:t>
            </a:r>
            <a:endParaRPr b="1" lang="en-US" sz="36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31640" y="3500280"/>
            <a:ext cx="54723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Bartus Gábo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igazgató,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Magyar Környezetgazdaságtani Közpo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egyetemi adjunktus,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BME Környezetgazdaságtan Tanszé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No Waste is Good Waste" Conference June 9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800000"/>
                </a:solidFill>
                <a:latin typeface="Garamond"/>
              </a:rPr>
              <a:t>Az optimális szint (2b)</a:t>
            </a:r>
            <a:endParaRPr b="1" lang="en-US" sz="36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1981080"/>
            <a:ext cx="0" cy="396252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5943600"/>
            <a:ext cx="5257800" cy="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1905120"/>
            <a:ext cx="2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92040" y="598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5720" y="26668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1" lang="hu-HU" sz="2400" spc="-1" strike="noStrike">
                <a:solidFill>
                  <a:srgbClr val="333399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66320" y="5985000"/>
            <a:ext cx="6260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Q</a:t>
            </a:r>
            <a:r>
              <a:rPr b="0" lang="en-GB" sz="2400" spc="-1" strike="noStrike" baseline="-18000">
                <a:solidFill>
                  <a:srgbClr val="333399"/>
                </a:solidFill>
                <a:latin typeface="Times New Roman"/>
              </a:rPr>
              <a:t>o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02120" y="1946160"/>
            <a:ext cx="52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AC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= 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hulladék-megelőzési határkölt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981080" y="2286000"/>
            <a:ext cx="3810240" cy="36576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5486400"/>
            <a:ext cx="13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lladé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Garamond"/>
              </a:rPr>
              <a:t>Az optimális szint (3b)</a:t>
            </a:r>
            <a:endParaRPr b="1" lang="en-US" sz="36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1981080"/>
            <a:ext cx="0" cy="396252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5943600"/>
            <a:ext cx="5257800" cy="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1905120"/>
            <a:ext cx="2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92040" y="598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2743200"/>
            <a:ext cx="4724640" cy="3733920"/>
          </a:xfrm>
          <a:prstGeom prst="line">
            <a:avLst/>
          </a:prstGeom>
          <a:ln cap="sq"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49000" y="286056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96360" y="5943600"/>
            <a:ext cx="6260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Q</a:t>
            </a:r>
            <a:r>
              <a:rPr b="0" lang="en-GB" sz="2400" spc="-1" strike="noStrike" baseline="-18000">
                <a:solidFill>
                  <a:srgbClr val="333399"/>
                </a:solidFill>
                <a:latin typeface="Times New Roman"/>
              </a:rPr>
              <a:t>o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752480" y="3657600"/>
            <a:ext cx="5105520" cy="2286000"/>
          </a:xfrm>
          <a:prstGeom prst="line">
            <a:avLst/>
          </a:prstGeom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67800" y="3699000"/>
            <a:ext cx="29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C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= MPC +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4800600"/>
            <a:ext cx="0" cy="1143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90600" y="5943600"/>
            <a:ext cx="738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18000">
                <a:solidFill>
                  <a:srgbClr val="000000"/>
                </a:solidFill>
                <a:latin typeface="Times New Roman"/>
              </a:rPr>
              <a:t>opt,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83840" y="152388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MEC = </a:t>
            </a: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társadalmi jóléti határ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8640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zennye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905120" y="4952880"/>
            <a:ext cx="5105160" cy="9907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87800" y="461016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M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56840" y="1905120"/>
            <a:ext cx="44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PC = vállalati hulladékos határ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88520" y="228600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MSC = externális határ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800000"/>
                </a:solidFill>
                <a:latin typeface="Georgia"/>
              </a:rPr>
              <a:t>A hulladékkeletkezés optimális szintje</a:t>
            </a:r>
            <a:endParaRPr b="1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z a Q hulladékmennyiség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hol a hulladékkeletkezéshez kapcsolódó határköltség - pl. környezeti kár - (MEC)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Georgia"/>
              </a:rPr>
              <a:t>egyenlő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hulladékkeletkezés megelőzésének ill. elkerülésének határköltségével (MAC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vag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termelés nettó határhasznával (MNPB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No Waste is Good Waste" Conference June 9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Garamond"/>
              </a:rPr>
              <a:t>A beavatkozás terepei</a:t>
            </a:r>
            <a:endParaRPr b="1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Garamond"/>
              </a:rPr>
              <a:t>A technológiához kapcsolódóan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z igényt kielégítő termék szintjé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használati igény szintjé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No Waste is Good Waste" Conference June 9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Garamond"/>
              </a:rPr>
              <a:t>Az Audi (Győr) hulladékgazdálkodása</a:t>
            </a:r>
            <a:endParaRPr b="1" lang="en-US" sz="36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Termelési hulladékok mennyisége csökkent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2001/2002:  0,7%-kal (116,9t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2002/2003:  0.51%-kal (85,39t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Veszélyes hulladékok mennyisége csökkent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2001/2002:  0,38%-kal (52,04t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2002/2003:  2,90%-kal (396,13t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Teljes hulladékmennyiség 2003-ban: 30.398 tonn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Újrahasznosított termelési hulladék: 16.032 tonn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No Waste is Good Waste" Conference June 9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800000"/>
                </a:solidFill>
                <a:latin typeface="Garamond"/>
              </a:rPr>
              <a:t>A Denso (Székesfehérvár) hulladékgazdálkodása</a:t>
            </a:r>
            <a:endParaRPr b="1" lang="en-US" sz="36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aramond"/>
              </a:rPr>
              <a:t>Tevékenység: gépipar (autóalkatrészek, -egységek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hu-HU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nyaghasznosulási rát</a:t>
            </a:r>
            <a:r>
              <a:rPr b="0" lang="hu-HU" sz="32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hu-HU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hu-HU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2002</a:t>
            </a:r>
            <a:r>
              <a:rPr b="0" lang="hu-HU" sz="3200" spc="-1" strike="noStrike">
                <a:solidFill>
                  <a:srgbClr val="000000"/>
                </a:solidFill>
                <a:latin typeface="Garamond"/>
              </a:rPr>
              <a:t>) =</a:t>
            </a:r>
            <a:r>
              <a:rPr b="0" lang="hu-HU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97,5%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aramond"/>
              </a:rPr>
              <a:t>Kapun belüli új</a:t>
            </a:r>
            <a:r>
              <a:rPr b="0" lang="hu-HU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rahasznosít</a:t>
            </a:r>
            <a:r>
              <a:rPr b="0" lang="hu-HU" sz="3200" spc="-1" strike="noStrike">
                <a:solidFill>
                  <a:srgbClr val="000000"/>
                </a:solidFill>
                <a:latin typeface="Garamond"/>
              </a:rPr>
              <a:t>á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aramond"/>
              </a:rPr>
              <a:t>H</a:t>
            </a:r>
            <a:r>
              <a:rPr b="0" lang="hu-HU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ulladékkezelési költségek a</a:t>
            </a:r>
            <a:r>
              <a:rPr b="0" lang="hu-HU" sz="3200" spc="-1" strike="noStrike">
                <a:solidFill>
                  <a:srgbClr val="000000"/>
                </a:solidFill>
                <a:latin typeface="Garamond"/>
              </a:rPr>
              <a:t>lakulása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36</a:t>
            </a:r>
            <a:r>
              <a:rPr b="0" lang="hu-HU" sz="3200" spc="-1" strike="noStrike">
                <a:solidFill>
                  <a:srgbClr val="000000"/>
                </a:solidFill>
                <a:latin typeface="Garamond"/>
              </a:rPr>
              <a:t>,0</a:t>
            </a:r>
            <a:r>
              <a:rPr b="0" lang="hu-HU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Garamond"/>
              </a:rPr>
              <a:t> [28] </a:t>
            </a:r>
            <a:r>
              <a:rPr b="0" lang="hu-HU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millió Ft</a:t>
            </a:r>
            <a:r>
              <a:rPr b="0" lang="hu-HU" sz="3200" spc="-1" strike="noStrike">
                <a:solidFill>
                  <a:srgbClr val="000000"/>
                </a:solidFill>
                <a:latin typeface="Garamond"/>
              </a:rPr>
              <a:t> (2000)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hu-HU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7,8</a:t>
            </a:r>
            <a:r>
              <a:rPr b="0" lang="hu-HU" sz="3200" spc="-1" strike="noStrike">
                <a:solidFill>
                  <a:srgbClr val="000000"/>
                </a:solidFill>
                <a:latin typeface="Garamond"/>
              </a:rPr>
              <a:t>  [  2] </a:t>
            </a:r>
            <a:r>
              <a:rPr b="0" lang="hu-HU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millió Ft</a:t>
            </a:r>
            <a:r>
              <a:rPr b="0" lang="hu-HU" sz="3200" spc="-1" strike="noStrike">
                <a:solidFill>
                  <a:srgbClr val="000000"/>
                </a:solidFill>
                <a:latin typeface="Garamond"/>
              </a:rPr>
              <a:t> (2002)</a:t>
            </a:r>
            <a:r>
              <a:rPr b="0" lang="hu-HU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Teljes kiadás (=2002) </a:t>
            </a: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17,5</a:t>
            </a:r>
            <a:r>
              <a:rPr b="0" lang="hu-HU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milli</a:t>
            </a: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árd F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No Waste is Good Waste" Conference June 9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Garamond"/>
              </a:rPr>
              <a:t>A beavatkozás terepei</a:t>
            </a:r>
            <a:endParaRPr b="1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terméket előállító technológiához kapcsolódóa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901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Garamond"/>
              </a:rPr>
              <a:t>Az igényt kielégítő termék szintjén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használati igény szintjé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No Waste is Good Waste" Conference June 9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Garamond"/>
              </a:rPr>
              <a:t>Megelőzési lehetőségek</a:t>
            </a: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Garamond"/>
              </a:rPr>
              <a:t> – termék szint</a:t>
            </a:r>
            <a:endParaRPr b="1" lang="en-US" sz="36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aramond"/>
              </a:rPr>
              <a:t>Példák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aramond"/>
              </a:rPr>
              <a:t>Hosszabb életidejű terméke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hu-HU" sz="3200" spc="-1" strike="noStrike">
                <a:solidFill>
                  <a:srgbClr val="ff9900"/>
                </a:solidFill>
                <a:latin typeface="Garamond"/>
              </a:rPr>
              <a:t>DE: divatavulás nő, élettartam csökke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aramond"/>
              </a:rPr>
              <a:t>Javítható, moduláris terméke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9900"/>
                </a:solidFill>
                <a:latin typeface="Garamond"/>
              </a:rPr>
              <a:t>	</a:t>
            </a:r>
            <a:r>
              <a:rPr b="0" lang="hu-HU" sz="3200" spc="-1" strike="noStrike">
                <a:solidFill>
                  <a:srgbClr val="ff9900"/>
                </a:solidFill>
                <a:latin typeface="Garamond"/>
              </a:rPr>
              <a:t>DE: élőmunkaterhek miatt a javítás drága,</a:t>
            </a:r>
            <a:br>
              <a:rPr sz="3200"/>
            </a:br>
            <a:r>
              <a:rPr b="0" lang="hu-HU" sz="3200" spc="-1" strike="noStrike">
                <a:solidFill>
                  <a:srgbClr val="ff9900"/>
                </a:solidFill>
                <a:latin typeface="Garamond"/>
              </a:rPr>
              <a:t>a termékek sok esetben javíthatatlano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No Waste is Good Waste" Conference June 9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Garamond"/>
              </a:rPr>
              <a:t>A beavatkozás terepei</a:t>
            </a:r>
            <a:endParaRPr b="1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technológiához kapcsolódóa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z igényt kielégítő termék szintjé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Garamond"/>
              </a:rPr>
              <a:t>A használati igény szintjén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No Waste is Good Waste" Conference June 9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Garamond"/>
              </a:rPr>
              <a:t>Megelőzési lehetőségek</a:t>
            </a: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Garamond"/>
              </a:rPr>
              <a:t> – fogyasztói igények szintje</a:t>
            </a:r>
            <a:endParaRPr b="1" lang="en-US" sz="36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éldák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öbb izomerő használata (elkerülhető elemek, akkumulátorok használata és hulladékká válása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DE: több elektromos fogkef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öbb természetes élelmiszer fogyasztása (elkerülhető csomagolási hulladékok keletkezése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DE: „mű-élelmiszerek” arányának növekedés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No Waste is Good Waste" Conference June 9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Georgia"/>
              </a:rPr>
              <a:t>A hulladék fogalma</a:t>
            </a:r>
            <a:endParaRPr b="1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2666880"/>
            <a:ext cx="1676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rmék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472428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5105520"/>
            <a:ext cx="19814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őforr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657600"/>
            <a:ext cx="1981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apanyag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3733920"/>
            <a:ext cx="22096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használt 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lléktermék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514600" y="441936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514600" y="2971440"/>
            <a:ext cx="129528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2971800"/>
            <a:ext cx="1600200" cy="7621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5181480"/>
            <a:ext cx="2057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ulladék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449568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114440"/>
            <a:ext cx="3429000" cy="6094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276720"/>
            <a:ext cx="2666880" cy="68580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282744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80040" y="2751120"/>
            <a:ext cx="6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4724280"/>
            <a:ext cx="1752480" cy="533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28160" y="521496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zennyez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276720"/>
            <a:ext cx="1218960" cy="19810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952880" y="3200400"/>
            <a:ext cx="914400" cy="19810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3352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Garamond"/>
              </a:rPr>
              <a:t>Megelőzés szabályozása</a:t>
            </a:r>
            <a:endParaRPr b="1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természeti erőforrások (inputok) használatának helyes beárazása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Járadékok kivetés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hulladékártalmatlanításra kivetett díj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ermékdíj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ulladékszegény-technológiák támogatás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zabványok / Technológiai előíráso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No Waste is Good Waste" Conference June 9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Garamond"/>
              </a:rPr>
              <a:t>Következtetések</a:t>
            </a:r>
            <a:endParaRPr b="1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A megelőzés fontos, de nem egyedüli eszköze a hulladékgazdálkodásna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Optimális alkalmazási arányát a hulladékkeletkezés és a megelőzés egymáshoz mért költségei határozzák me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Ma Magyarországon a megelőzés aránya szuboptimáli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A legjobb szabályzó a hulladékkeletkezés – társadalmi jóléti szempontból is – helyes beárazása (az ár a legjobb szabályzó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No Waste is Good Waste" Conference June 9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927000"/>
            <a:ext cx="8686800" cy="500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No Waste is Good Waste" Conference June 9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TSZH mennyisége az OECD országokban (2000)</a:t>
            </a:r>
            <a:endParaRPr b="1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szervezet tagállamaiban a települési szilárd hulladék mennyisége 1990 és 2000 között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14 %-kal, 530-ról 605 millió tonnára nőtt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E növekedés részben a 8 %-os népesség</a:t>
            </a:r>
            <a:r>
              <a:rPr b="0" lang="hu-HU" sz="24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növekedésnek, részben a 6 %-os egy főre eső hulladéktermelés növekedésének (509 helyett 540 kg/fő/év) volt köszönhető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No Waste is Good Waste" Conference June 9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de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A megelőzés</a:t>
            </a:r>
            <a:endParaRPr b="1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09480" y="1905120"/>
            <a:ext cx="6781680" cy="4511160"/>
            <a:chOff x="609480" y="1905120"/>
            <a:chExt cx="6781680" cy="4511160"/>
          </a:xfrm>
        </p:grpSpPr>
        <p:sp>
          <p:nvSpPr>
            <p:cNvPr id="70" name=""/>
            <p:cNvSpPr/>
            <p:nvPr/>
          </p:nvSpPr>
          <p:spPr>
            <a:xfrm>
              <a:off x="5029200" y="5099040"/>
              <a:ext cx="236196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7760" y="2660400"/>
              <a:ext cx="1676520" cy="685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Termék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5800" y="4717800"/>
              <a:ext cx="662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1760" y="5099040"/>
              <a:ext cx="1981440" cy="8377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rőforráso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9480" y="3651120"/>
              <a:ext cx="1981080" cy="7617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lapanyago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81480" y="3727440"/>
              <a:ext cx="2209680" cy="761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lhasznált é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lléktermék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752480" y="4413240"/>
              <a:ext cx="0" cy="685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752480" y="2965320"/>
              <a:ext cx="1295280" cy="685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2965320"/>
              <a:ext cx="1600200" cy="761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81480" y="5175000"/>
              <a:ext cx="2057400" cy="68544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Leraká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48160" y="4489200"/>
              <a:ext cx="0" cy="685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752480" y="4108320"/>
              <a:ext cx="3429000" cy="6091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38280" y="3270240"/>
              <a:ext cx="2666880" cy="68544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1080" y="2820960"/>
              <a:ext cx="5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7920" y="2744640"/>
              <a:ext cx="62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46120" y="19051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46120" y="601956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33760" y="3270240"/>
              <a:ext cx="76320" cy="45684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7543800" y="4343400"/>
            <a:ext cx="14479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Ége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3962520"/>
            <a:ext cx="761760" cy="3808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391520" y="5105520"/>
            <a:ext cx="761760" cy="457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1880" y="5105520"/>
            <a:ext cx="457200" cy="5331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3657600"/>
            <a:ext cx="198108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z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723920" y="4495680"/>
            <a:ext cx="762120" cy="763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4190760" y="4419360"/>
            <a:ext cx="533160" cy="1522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2361960" y="3352320"/>
            <a:ext cx="609480" cy="30492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1752480"/>
            <a:ext cx="198144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gelő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2133720"/>
            <a:ext cx="1981080" cy="83808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85800" y="2133720"/>
            <a:ext cx="1752480" cy="1218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800000"/>
                </a:solidFill>
                <a:latin typeface="Georgia"/>
              </a:rPr>
              <a:t>Az eszközök funkciója - megelőzés</a:t>
            </a:r>
            <a:endParaRPr b="1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eorgia"/>
              </a:rPr>
              <a:t>Megelőzés:  melléktermékek keletkezésének vagy termékek elhasználódásának elkerülés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Georgia"/>
              </a:rPr>
              <a:t>Funkciója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Georgia"/>
              </a:rPr>
              <a:t>Eleve kevesebb kezelendő mellék- vagy elhasznált termék keletkezze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No Waste is Good Waste" Conference June 9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800000"/>
                </a:solidFill>
                <a:latin typeface="Garamond"/>
              </a:rPr>
              <a:t>Az optimális szint (1)</a:t>
            </a:r>
            <a:endParaRPr b="1" lang="en-US" sz="36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1981080"/>
            <a:ext cx="0" cy="396252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5943600"/>
            <a:ext cx="5257800" cy="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1905120"/>
            <a:ext cx="2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2040" y="598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2514600"/>
            <a:ext cx="4267440" cy="762120"/>
          </a:xfrm>
          <a:prstGeom prst="wedgeRoundRectCallout">
            <a:avLst>
              <a:gd name="adj1" fmla="val -50481"/>
              <a:gd name="adj2" fmla="val 102499"/>
              <a:gd name="adj3" fmla="val 16667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rak, hasznok, költségek (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5029200"/>
            <a:ext cx="4267080" cy="533520"/>
          </a:xfrm>
          <a:prstGeom prst="wedgeRoundRectCallout">
            <a:avLst>
              <a:gd name="adj1" fmla="val -19569"/>
              <a:gd name="adj2" fmla="val 120537"/>
              <a:gd name="adj3" fmla="val 16667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ermék vagy hulladék mennyi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No Waste is Good Waste" Conference June 9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800000"/>
                </a:solidFill>
                <a:latin typeface="Garamond"/>
              </a:rPr>
              <a:t>Az optimális szint (2a)</a:t>
            </a:r>
            <a:endParaRPr b="1" lang="en-US" sz="36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1981080"/>
            <a:ext cx="0" cy="396252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5943600"/>
            <a:ext cx="5257800" cy="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905120"/>
            <a:ext cx="2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92040" y="598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2743200"/>
            <a:ext cx="4724640" cy="3733920"/>
          </a:xfrm>
          <a:prstGeom prst="line">
            <a:avLst/>
          </a:prstGeom>
          <a:ln cap="sq"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8640" y="2860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imes New Roman"/>
              </a:rPr>
              <a:t>MN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6320" y="5985000"/>
            <a:ext cx="6260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Q</a:t>
            </a:r>
            <a:r>
              <a:rPr b="0" lang="en-GB" sz="2400" spc="-1" strike="noStrike" baseline="-18000">
                <a:solidFill>
                  <a:srgbClr val="333399"/>
                </a:solidFill>
                <a:latin typeface="Times New Roman"/>
              </a:rPr>
              <a:t>o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03200" y="1946160"/>
            <a:ext cx="45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MNPB = 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vállalati nettó határhas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5562720"/>
            <a:ext cx="92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ermé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800000"/>
                </a:solidFill>
                <a:latin typeface="Garamond"/>
              </a:rPr>
              <a:t>Az optimális szint (3a)</a:t>
            </a:r>
            <a:endParaRPr b="1" lang="en-US" sz="36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1981080"/>
            <a:ext cx="0" cy="396252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5943600"/>
            <a:ext cx="5257800" cy="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905120"/>
            <a:ext cx="2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92040" y="598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2743200"/>
            <a:ext cx="4724640" cy="3733920"/>
          </a:xfrm>
          <a:prstGeom prst="line">
            <a:avLst/>
          </a:prstGeom>
          <a:ln cap="sq"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8640" y="2860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imes New Roman"/>
              </a:rPr>
              <a:t>MN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66320" y="5985000"/>
            <a:ext cx="6260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Q</a:t>
            </a:r>
            <a:r>
              <a:rPr b="0" lang="en-GB" sz="2400" spc="-1" strike="noStrike" baseline="-18000">
                <a:solidFill>
                  <a:srgbClr val="333399"/>
                </a:solidFill>
                <a:latin typeface="Times New Roman"/>
              </a:rPr>
              <a:t>o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752480" y="3657600"/>
            <a:ext cx="5105520" cy="2286000"/>
          </a:xfrm>
          <a:prstGeom prst="line">
            <a:avLst/>
          </a:prstGeom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67800" y="36990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4800600"/>
            <a:ext cx="0" cy="1143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51080" y="5985000"/>
            <a:ext cx="738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18000">
                <a:solidFill>
                  <a:srgbClr val="000000"/>
                </a:solidFill>
                <a:latin typeface="Times New Roman"/>
              </a:rPr>
              <a:t>opt,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16880" y="182880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C =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rnyezeti (társadalmi) határká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5562720"/>
            <a:ext cx="92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ermé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15:48:14Z</dcterms:created>
  <dc:creator>Gábor2</dc:creator>
  <dc:description/>
  <dc:language>en-US</dc:language>
  <cp:lastModifiedBy>bartus</cp:lastModifiedBy>
  <dcterms:modified xsi:type="dcterms:W3CDTF">2005-06-08T11:20:17Z</dcterms:modified>
  <cp:revision>18</cp:revision>
  <dc:subject/>
  <dc:title>Az állami szabályozás lehetőségei az energiahatékonyság javítására</dc:title>
</cp:coreProperties>
</file>