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9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690" spc="-1" strike="noStrike">
                <a:solidFill>
                  <a:srgbClr val="000000"/>
                </a:solidFill>
                <a:latin typeface="Arial"/>
                <a:ea typeface="Tahoma"/>
              </a:rPr>
              <a:t>Mennyi hulladék keletkezik Magyarországon?</a:t>
            </a:r>
          </a:p>
        </c:rich>
      </c:tx>
      <c:layout>
        <c:manualLayout>
          <c:xMode val="edge"/>
          <c:yMode val="edge"/>
          <c:x val="0.0353936718175129"/>
          <c:y val="0.019584709768758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362030905077263"/>
          <c:y val="0.140278433223219"/>
          <c:w val="0.952980132450331"/>
          <c:h val="0.839546956111373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7 régió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1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Ipari nem veszélyes hulladékok</c:v>
                </c:pt>
                <c:pt idx="1">
                  <c:v>Mezőgazdaság nem veszélyes hulladékok</c:v>
                </c:pt>
                <c:pt idx="2">
                  <c:v>Települési szilárd hulladékok</c:v>
                </c:pt>
                <c:pt idx="3">
                  <c:v>Települési folyékony hulladékok</c:v>
                </c:pt>
                <c:pt idx="4">
                  <c:v>Kommunális szennyvíziszap </c:v>
                </c:pt>
                <c:pt idx="5">
                  <c:v>Veszélyes hulladék</c:v>
                </c:pt>
                <c:pt idx="6">
                  <c:v>Biomassz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0.022155</c:v>
                </c:pt>
                <c:pt idx="1">
                  <c:v>6.981239</c:v>
                </c:pt>
                <c:pt idx="2">
                  <c:v>4.20975</c:v>
                </c:pt>
                <c:pt idx="3">
                  <c:v>6.310166</c:v>
                </c:pt>
                <c:pt idx="4">
                  <c:v>1.460008</c:v>
                </c:pt>
                <c:pt idx="5">
                  <c:v>3.227224</c:v>
                </c:pt>
                <c:pt idx="6">
                  <c:v>5.30023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OHT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1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Ipari nem veszélyes hulladékok</c:v>
                </c:pt>
                <c:pt idx="1">
                  <c:v>Mezőgazdaság nem veszélyes hulladékok</c:v>
                </c:pt>
                <c:pt idx="2">
                  <c:v>Települési szilárd hulladékok</c:v>
                </c:pt>
                <c:pt idx="3">
                  <c:v>Települési folyékony hulladékok</c:v>
                </c:pt>
                <c:pt idx="4">
                  <c:v>Kommunális szennyvíziszap </c:v>
                </c:pt>
                <c:pt idx="5">
                  <c:v>Veszélyes hulladék</c:v>
                </c:pt>
                <c:pt idx="6">
                  <c:v>Biomassza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1.5</c:v>
                </c:pt>
                <c:pt idx="1">
                  <c:v>5</c:v>
                </c:pt>
                <c:pt idx="2">
                  <c:v>4.6</c:v>
                </c:pt>
                <c:pt idx="3">
                  <c:v>5.5</c:v>
                </c:pt>
                <c:pt idx="4">
                  <c:v>0.7</c:v>
                </c:pt>
                <c:pt idx="5">
                  <c:v>3.4</c:v>
                </c:pt>
                <c:pt idx="6">
                  <c:v>28</c:v>
                </c:pt>
              </c:numCache>
            </c:numRef>
          </c:val>
        </c:ser>
        <c:gapWidth val="100"/>
        <c:overlap val="0"/>
        <c:axId val="2719052"/>
        <c:axId val="30914792"/>
      </c:barChart>
      <c:catAx>
        <c:axId val="2719052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1" sz="108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30914792"/>
        <c:crossesAt val="0"/>
        <c:auto val="1"/>
        <c:lblAlgn val="ctr"/>
        <c:lblOffset val="100"/>
        <c:noMultiLvlLbl val="0"/>
      </c:catAx>
      <c:valAx>
        <c:axId val="30914792"/>
        <c:scaling>
          <c:orientation val="minMax"/>
        </c:scaling>
        <c:delete val="0"/>
        <c:axPos val="l"/>
        <c:title>
          <c:tx>
            <c:rich>
              <a:bodyPr rot="0"/>
              <a:lstStyle/>
              <a:p>
                <a:pPr>
                  <a:defRPr b="1" sz="108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  <a:r>
                  <a:rPr b="1" sz="108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millió tonna/év</a:t>
                </a:r>
              </a:p>
            </c:rich>
          </c:tx>
          <c:layout>
            <c:manualLayout>
              <c:xMode val="edge"/>
              <c:yMode val="edge"/>
              <c:x val="0.620529801324503"/>
              <c:y val="0.92932987258140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61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2719052"/>
        <c:crosses val="min"/>
        <c:crossBetween val="between"/>
        <c:majorUnit val="5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03164091243562"/>
          <c:y val="0.33529966965549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200" spc="-1" strike="noStrike">
              <a:solidFill>
                <a:srgbClr val="000000"/>
              </a:solidFill>
              <a:latin typeface="Arial"/>
              <a:ea typeface="Tahoma"/>
            </a:defRPr>
          </a:pPr>
        </a:p>
      </c:txPr>
    </c:legend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930" spc="-1" strike="noStrike">
                <a:solidFill>
                  <a:srgbClr val="000000"/>
                </a:solidFill>
                <a:latin typeface="Arial CE"/>
                <a:ea typeface="Tahoma"/>
              </a:defRPr>
            </a:pPr>
            <a:r>
              <a:rPr b="1" sz="930" spc="-1" strike="noStrike">
                <a:solidFill>
                  <a:srgbClr val="000000"/>
                </a:solidFill>
                <a:latin typeface="Arial CE"/>
                <a:ea typeface="Tahoma"/>
              </a:rPr>
              <a:t>Hulladéktermelés a GDP-hez viszonyítva
(kg/1000 USD GDP)</a:t>
            </a:r>
          </a:p>
        </c:rich>
      </c:tx>
      <c:layout>
        <c:manualLayout>
          <c:xMode val="edge"/>
          <c:yMode val="edge"/>
          <c:x val="0.183296964887919"/>
          <c:y val="0.0419749573136027"/>
        </c:manualLayout>
      </c:layout>
      <c:overlay val="0"/>
      <c:spPr>
        <a:noFill/>
        <a:ln w="0">
          <a:noFill/>
        </a:ln>
      </c:spPr>
    </c:title>
    <c:autoTitleDeleted val="0"/>
    <c:view3D>
      <c:rotX val="12"/>
      <c:rotY val="26"/>
      <c:rAngAx val="0"/>
      <c:perspective val="40"/>
    </c:view3D>
    <c:floor>
      <c:spPr>
        <a:noFill/>
        <a:ln w="0">
          <a:noFill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layout>
        <c:manualLayout>
          <c:xMode val="edge"/>
          <c:yMode val="edge"/>
          <c:x val="0.0148780003967467"/>
          <c:y val="0.160785429709733"/>
          <c:w val="0.971335052568935"/>
          <c:h val="0.833096186681844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szlop B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8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1" sz="1200" spc="-1" strike="noStrike">
                      <a:solidFill>
                        <a:srgbClr val="ffff00"/>
                      </a:solidFill>
                      <a:latin typeface="Arial CE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1200" spc="-1" strike="noStrike">
                      <a:solidFill>
                        <a:srgbClr val="ffff00"/>
                      </a:solidFill>
                      <a:latin typeface="Arial CE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sz="930" spc="-1" strike="noStrike">
                    <a:solidFill>
                      <a:srgbClr val="ffff00"/>
                    </a:solidFill>
                    <a:latin typeface="Arial CE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OECD átlag</c:v>
                </c:pt>
                <c:pt idx="1">
                  <c:v>Magyarország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8</c:v>
                </c:pt>
                <c:pt idx="1">
                  <c:v>273</c:v>
                </c:pt>
              </c:numCache>
            </c:numRef>
          </c:val>
        </c:ser>
        <c:gapWidth val="50"/>
        <c:shape val="box"/>
        <c:axId val="32760400"/>
        <c:axId val="35971579"/>
        <c:axId val="0"/>
      </c:bar3DChart>
      <c:catAx>
        <c:axId val="32760400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1" sz="850" spc="-1" strike="noStrike">
                <a:solidFill>
                  <a:srgbClr val="000000"/>
                </a:solidFill>
                <a:latin typeface="Arial CE"/>
                <a:ea typeface="Tahoma"/>
              </a:defRPr>
            </a:pPr>
          </a:p>
        </c:txPr>
        <c:crossAx val="35971579"/>
        <c:crossesAt val="0"/>
        <c:auto val="1"/>
        <c:lblAlgn val="ctr"/>
        <c:lblOffset val="100"/>
        <c:noMultiLvlLbl val="0"/>
      </c:catAx>
      <c:valAx>
        <c:axId val="35971579"/>
        <c:scaling>
          <c:orientation val="minMax"/>
        </c:scaling>
        <c:delete val="0"/>
        <c:axPos val="l"/>
        <c:numFmt formatCode="General" sourceLinked="1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32760400"/>
        <c:crosses val="min"/>
        <c:crossBetween val="between"/>
      </c:valAx>
    </c:plotArea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7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870" spc="-1" strike="noStrike">
                <a:solidFill>
                  <a:srgbClr val="000000"/>
                </a:solidFill>
                <a:latin typeface="Arial"/>
                <a:ea typeface="Tahoma"/>
              </a:rPr>
              <a:t>Hol a gumiabroncs termékdíj?</a:t>
            </a:r>
          </a:p>
        </c:rich>
      </c:tx>
      <c:layout>
        <c:manualLayout>
          <c:xMode val="edge"/>
          <c:yMode val="edge"/>
          <c:x val="0.00846593227254182"/>
          <c:y val="0.0400381315538608"/>
        </c:manualLayout>
      </c:layout>
      <c:overlay val="0"/>
      <c:spPr>
        <a:noFill/>
        <a:ln w="0">
          <a:noFill/>
        </a:ln>
      </c:spPr>
    </c:title>
    <c:autoTitleDeleted val="0"/>
    <c:view3D>
      <c:rotX val="20"/>
      <c:rotY val="26"/>
      <c:rAngAx val="0"/>
      <c:perspective val="40"/>
    </c:view3D>
    <c:floor>
      <c:spPr>
        <a:noFill/>
        <a:ln w="0">
          <a:noFill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layout>
        <c:manualLayout>
          <c:xMode val="edge"/>
          <c:yMode val="edge"/>
          <c:x val="0.0280497756017952"/>
          <c:y val="0.0400381315538608"/>
          <c:w val="0.794879640962872"/>
          <c:h val="0.91695794936977"/>
        </c:manualLayout>
      </c:layout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Rendszeres és egyszeri támogatások</c:v>
                </c:pt>
              </c:strCache>
            </c:strRef>
          </c:tx>
          <c:spPr>
            <a:solidFill>
              <a:srgbClr val="00800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8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0080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008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8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7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996</c:v>
                </c:pt>
                <c:pt idx="1">
                  <c:v>1997</c:v>
                </c:pt>
                <c:pt idx="2">
                  <c:v>1998</c:v>
                </c:pt>
                <c:pt idx="3">
                  <c:v>199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994</c:v>
                </c:pt>
                <c:pt idx="1">
                  <c:v>89.285</c:v>
                </c:pt>
                <c:pt idx="2">
                  <c:v>551.718</c:v>
                </c:pt>
                <c:pt idx="3">
                  <c:v>138.16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Termékdíjból származó bevételek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7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7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996</c:v>
                </c:pt>
                <c:pt idx="1">
                  <c:v>1997</c:v>
                </c:pt>
                <c:pt idx="2">
                  <c:v>1998</c:v>
                </c:pt>
                <c:pt idx="3">
                  <c:v>199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263</c:v>
                </c:pt>
                <c:pt idx="1">
                  <c:v>1198</c:v>
                </c:pt>
                <c:pt idx="2">
                  <c:v>1444</c:v>
                </c:pt>
                <c:pt idx="3">
                  <c:v>1918.4</c:v>
                </c:pt>
              </c:numCache>
            </c:numRef>
          </c:val>
        </c:ser>
        <c:gapWidth val="100"/>
        <c:shape val="cylinder"/>
        <c:axId val="60549716"/>
        <c:axId val="41438104"/>
      </c:bar3DChart>
      <c:catAx>
        <c:axId val="6054971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 rot="-1800000"/>
          <a:lstStyle/>
          <a:p>
            <a:pPr>
              <a:defRPr b="1" sz="107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41438104"/>
        <c:crossesAt val="0"/>
        <c:auto val="1"/>
        <c:lblAlgn val="ctr"/>
        <c:lblOffset val="100"/>
        <c:noMultiLvlLbl val="0"/>
      </c:catAx>
      <c:valAx>
        <c:axId val="41438104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Mrd Ft</a:t>
                </a:r>
              </a:p>
            </c:rich>
          </c:tx>
          <c:layout>
            <c:manualLayout>
              <c:xMode val="edge"/>
              <c:yMode val="edge"/>
              <c:x val="0.144430844553244"/>
              <c:y val="0.407795784344879"/>
            </c:manualLayout>
          </c:layout>
          <c:overlay val="0"/>
          <c:spPr>
            <a:noFill/>
            <a:ln w="0">
              <a:noFill/>
            </a:ln>
          </c:spPr>
        </c:title>
        <c:numFmt formatCode="#,##0" sourceLinked="1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107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60549716"/>
        <c:crosses val="min"/>
        <c:crossBetween val="between"/>
      </c:valAx>
    </c:plotArea>
    <c:legend>
      <c:legendPos val="r"/>
      <c:layout>
        <c:manualLayout>
          <c:xMode val="edge"/>
          <c:yMode val="edge"/>
          <c:x val="0.741126070991432"/>
          <c:y val="0.37008791441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80" spc="-1" strike="noStrike">
              <a:solidFill>
                <a:srgbClr val="000000"/>
              </a:solidFill>
              <a:latin typeface="Arial"/>
              <a:ea typeface="Tahoma"/>
            </a:defRPr>
          </a:pPr>
        </a:p>
      </c:txPr>
    </c:legend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  <a:ea typeface="Tahoma"/>
              </a:rPr>
              <a:t>Egy liter szemétre jutó szemétdíj (Ft)</a:t>
            </a:r>
          </a:p>
        </c:rich>
      </c:tx>
      <c:layout>
        <c:manualLayout>
          <c:xMode val="edge"/>
          <c:yMode val="edge"/>
          <c:x val="0.0585782174376879"/>
          <c:y val="0.019762845849802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86635631849"/>
          <c:y val="0.134634387351779"/>
          <c:w val="0.959945689069925"/>
          <c:h val="0.8454792490118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szlop F</c:v>
                </c:pt>
              </c:strCache>
            </c:strRef>
          </c:tx>
          <c:spPr>
            <a:solidFill>
              <a:srgbClr val="0047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47ff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invertIfNegative val="0"/>
            <c:spPr>
              <a:solidFill>
                <a:srgbClr val="0047ff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0047ff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invertIfNegative val="0"/>
            <c:spPr>
              <a:solidFill>
                <a:srgbClr val="0047ff"/>
              </a:solidFill>
              <a:ln w="0">
                <a:solidFill>
                  <a:srgbClr val="000000"/>
                </a:solidFill>
              </a:ln>
            </c:spPr>
          </c:dPt>
          <c:dPt>
            <c:idx val="4"/>
            <c:invertIfNegative val="0"/>
            <c:spPr>
              <a:solidFill>
                <a:srgbClr val="0047ff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11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1" sz="11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1" sz="11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1" sz="11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sz="110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60</c:v>
                </c:pt>
                <c:pt idx="1">
                  <c:v>80</c:v>
                </c:pt>
                <c:pt idx="2">
                  <c:v>110</c:v>
                </c:pt>
                <c:pt idx="3">
                  <c:v>120</c:v>
                </c:pt>
                <c:pt idx="4">
                  <c:v>24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.81666666666667</c:v>
                </c:pt>
                <c:pt idx="1">
                  <c:v>1.725</c:v>
                </c:pt>
                <c:pt idx="2">
                  <c:v>1.47272727272727</c:v>
                </c:pt>
                <c:pt idx="3">
                  <c:v>1.38333333333333</c:v>
                </c:pt>
                <c:pt idx="4">
                  <c:v>1.62083333333333</c:v>
                </c:pt>
              </c:numCache>
            </c:numRef>
          </c:val>
        </c:ser>
        <c:gapWidth val="100"/>
        <c:overlap val="0"/>
        <c:axId val="78712875"/>
        <c:axId val="24622948"/>
      </c:barChart>
      <c:catAx>
        <c:axId val="7871287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sz="104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  <a:r>
                  <a:rPr b="1" sz="104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 kuka mérete (liter)</a:t>
                </a:r>
              </a:p>
            </c:rich>
          </c:tx>
          <c:layout>
            <c:manualLayout>
              <c:xMode val="edge"/>
              <c:yMode val="edge"/>
              <c:x val="0.333236349529629"/>
              <c:y val="0.92663043478260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1" sz="10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24622948"/>
        <c:crossesAt val="0"/>
        <c:auto val="1"/>
        <c:lblAlgn val="ctr"/>
        <c:lblOffset val="100"/>
        <c:noMultiLvlLbl val="0"/>
      </c:catAx>
      <c:valAx>
        <c:axId val="24622948"/>
        <c:scaling>
          <c:orientation val="minMax"/>
          <c:max val="2"/>
          <c:min val="1"/>
        </c:scaling>
        <c:delete val="0"/>
        <c:axPos val="l"/>
        <c:numFmt formatCode="General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81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78712875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520" spc="-1" strike="noStrike">
                <a:solidFill>
                  <a:srgbClr val="000000"/>
                </a:solidFill>
                <a:latin typeface="Arial"/>
                <a:ea typeface="Tahoma"/>
              </a:rPr>
              <a:t>A diffrenciált szemétdíj hatása Dániában (kg/fő/év)</a:t>
            </a:r>
          </a:p>
        </c:rich>
      </c:tx>
      <c:layout>
        <c:manualLayout>
          <c:xMode val="edge"/>
          <c:yMode val="edge"/>
          <c:x val="0.0186656382568454"/>
          <c:y val="0.019207538052669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70420362514462"/>
          <c:y val="0.12080212611742"/>
          <c:w val="0.682221365214038"/>
          <c:h val="0.844769267939116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fferenciált szemétdíj rendszert működtető települések</c:v>
                </c:pt>
              </c:strCache>
            </c:strRef>
          </c:tx>
          <c:spPr>
            <a:solidFill>
              <a:srgbClr val="23ff23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23ff23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7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70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Vegyes háztartási hulladék</c:v>
                </c:pt>
                <c:pt idx="1">
                  <c:v>Papír, karton</c:v>
                </c:pt>
                <c:pt idx="2">
                  <c:v>Üveg</c:v>
                </c:pt>
                <c:pt idx="3">
                  <c:v>Biológiai lebomló hulladék</c:v>
                </c:pt>
                <c:pt idx="4">
                  <c:v>Teljes mennyiség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25</c:v>
                </c:pt>
                <c:pt idx="1">
                  <c:v>105</c:v>
                </c:pt>
                <c:pt idx="2">
                  <c:v>38</c:v>
                </c:pt>
                <c:pt idx="3">
                  <c:v>124</c:v>
                </c:pt>
                <c:pt idx="4">
                  <c:v>59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eferencia települések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70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Vegyes háztartási hulladék</c:v>
                </c:pt>
                <c:pt idx="1">
                  <c:v>Papír, karton</c:v>
                </c:pt>
                <c:pt idx="2">
                  <c:v>Üveg</c:v>
                </c:pt>
                <c:pt idx="3">
                  <c:v>Biológiai lebomló hulladék</c:v>
                </c:pt>
                <c:pt idx="4">
                  <c:v>Teljes mennyiség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729</c:v>
                </c:pt>
                <c:pt idx="1">
                  <c:v>67</c:v>
                </c:pt>
                <c:pt idx="2">
                  <c:v>36</c:v>
                </c:pt>
                <c:pt idx="3">
                  <c:v>44</c:v>
                </c:pt>
                <c:pt idx="4">
                  <c:v>876</c:v>
                </c:pt>
              </c:numCache>
            </c:numRef>
          </c:val>
        </c:ser>
        <c:gapWidth val="100"/>
        <c:overlap val="0"/>
        <c:axId val="69679650"/>
        <c:axId val="64344808"/>
      </c:barChart>
      <c:catAx>
        <c:axId val="69679650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0" sz="117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64344808"/>
        <c:crossesAt val="0"/>
        <c:auto val="1"/>
        <c:lblAlgn val="ctr"/>
        <c:lblOffset val="100"/>
        <c:noMultiLvlLbl val="0"/>
      </c:catAx>
      <c:valAx>
        <c:axId val="64344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  <a:custDash>
                <a:ds d="100000" sp="50000"/>
              </a:custDash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81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69679650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27574238333976"/>
          <c:y val="0.32544092776032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60" spc="-1" strike="noStrike">
              <a:solidFill>
                <a:srgbClr val="000000"/>
              </a:solidFill>
              <a:latin typeface="Arial"/>
              <a:ea typeface="Tahoma"/>
            </a:defRPr>
          </a:pPr>
        </a:p>
      </c:txPr>
    </c:legend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340" spc="-1" strike="noStrike">
                <a:solidFill>
                  <a:srgbClr val="000000"/>
                </a:solidFill>
                <a:latin typeface="Arial"/>
                <a:ea typeface="Tahoma"/>
              </a:rPr>
              <a:t>Az ipar szerint</a:t>
            </a:r>
          </a:p>
        </c:rich>
      </c:tx>
      <c:layout>
        <c:manualLayout>
          <c:xMode val="edge"/>
          <c:yMode val="edge"/>
          <c:x val="0.247212187843568"/>
          <c:y val="0.01999167013744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7895398146694"/>
          <c:y val="0.134388449257254"/>
          <c:w val="0.959949740851264"/>
          <c:h val="0.84561988060530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szlop B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1" sz="10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10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sz="102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eldobó</c:v>
                </c:pt>
                <c:pt idx="1">
                  <c:v>visszaválthat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.27</c:v>
                </c:pt>
                <c:pt idx="1">
                  <c:v>2.36</c:v>
                </c:pt>
              </c:numCache>
            </c:numRef>
          </c:val>
        </c:ser>
        <c:gapWidth val="100"/>
        <c:overlap val="0"/>
        <c:axId val="13899466"/>
        <c:axId val="40880215"/>
      </c:barChart>
      <c:catAx>
        <c:axId val="1389946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1" sz="7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40880215"/>
        <c:crossesAt val="0"/>
        <c:auto val="1"/>
        <c:lblAlgn val="ctr"/>
        <c:lblOffset val="100"/>
        <c:noMultiLvlLbl val="0"/>
      </c:catAx>
      <c:valAx>
        <c:axId val="40880215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7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13899466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16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160" spc="-1" strike="noStrike">
                <a:solidFill>
                  <a:srgbClr val="000000"/>
                </a:solidFill>
                <a:latin typeface="Arial"/>
                <a:ea typeface="Tahoma"/>
              </a:rPr>
              <a:t>A HuMuSz szerint</a:t>
            </a:r>
          </a:p>
        </c:rich>
      </c:tx>
      <c:layout>
        <c:manualLayout>
          <c:xMode val="edge"/>
          <c:yMode val="edge"/>
          <c:x val="0.234357762017337"/>
          <c:y val="0.019538757206918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429472025217"/>
          <c:y val="0.13468930172966"/>
          <c:w val="0.960283687943263"/>
          <c:h val="0.8451313260730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szlop B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1" sz="88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88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sz="88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eldobó</c:v>
                </c:pt>
                <c:pt idx="1">
                  <c:v>visszaválthat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.37</c:v>
                </c:pt>
                <c:pt idx="1">
                  <c:v>1.15</c:v>
                </c:pt>
              </c:numCache>
            </c:numRef>
          </c:val>
        </c:ser>
        <c:gapWidth val="100"/>
        <c:overlap val="0"/>
        <c:axId val="75602166"/>
        <c:axId val="75513783"/>
      </c:barChart>
      <c:catAx>
        <c:axId val="7560216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1" sz="6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75513783"/>
        <c:crossesAt val="0"/>
        <c:auto val="1"/>
        <c:lblAlgn val="ctr"/>
        <c:lblOffset val="100"/>
        <c:noMultiLvlLbl val="0"/>
      </c:catAx>
      <c:valAx>
        <c:axId val="75513783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6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75602166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60" spc="-1" strike="noStrike">
                <a:solidFill>
                  <a:srgbClr val="000000"/>
                </a:solidFill>
                <a:latin typeface="Arial"/>
                <a:ea typeface="Tahoma"/>
              </a:defRPr>
            </a:pPr>
            <a:r>
              <a:rPr b="1" sz="1460" spc="-1" strike="noStrike">
                <a:solidFill>
                  <a:srgbClr val="000000"/>
                </a:solidFill>
                <a:latin typeface="Arial"/>
                <a:ea typeface="Tahoma"/>
              </a:rPr>
              <a:t>Háztartási trendek
2002 vs. 2003</a:t>
            </a:r>
          </a:p>
        </c:rich>
      </c:tx>
      <c:layout>
        <c:manualLayout>
          <c:xMode val="edge"/>
          <c:yMode val="edge"/>
          <c:x val="0.27509778357236"/>
          <c:y val="0.019921711170138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359041219536656"/>
          <c:y val="0.143366419684049"/>
          <c:w val="0.943736836826798"/>
          <c:h val="0.83657206766391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szlop B</c:v>
                </c:pt>
              </c:strCache>
            </c:strRef>
          </c:tx>
          <c:spPr>
            <a:gradFill>
              <a:gsLst>
                <a:gs pos="0">
                  <a:srgbClr val="ffff00"/>
                </a:gs>
                <a:gs pos="80000">
                  <a:srgbClr val="800000"/>
                </a:gs>
                <a:gs pos="100000">
                  <a:srgbClr val="800000"/>
                </a:gs>
              </a:gsLst>
              <a:path path="circle">
                <a:fillToRect l="30000" t="30000" r="70000" b="70000"/>
              </a:path>
            </a:gra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ffff00"/>
                  </a:gs>
                  <a:gs pos="80000">
                    <a:srgbClr val="800000"/>
                  </a:gs>
                  <a:gs pos="100000">
                    <a:srgbClr val="800000"/>
                  </a:gs>
                </a:gsLst>
                <a:path path="circle">
                  <a:fillToRect l="30000" t="30000" r="70000" b="70000"/>
                </a:path>
              </a:gra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81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810" spc="-1" strike="noStrike">
                    <a:solidFill>
                      <a:srgbClr val="000000"/>
                    </a:solidFill>
                    <a:latin typeface="Arial"/>
                    <a:ea typeface="Tahoma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1"/>
                <c:pt idx="0">
                  <c:v>tej</c:v>
                </c:pt>
                <c:pt idx="1">
                  <c:v>sajt</c:v>
                </c:pt>
                <c:pt idx="2">
                  <c:v>szénsavas üdítő</c:v>
                </c:pt>
                <c:pt idx="3">
                  <c:v>mosószer</c:v>
                </c:pt>
                <c:pt idx="4">
                  <c:v>felvágottak</c:v>
                </c:pt>
                <c:pt idx="5">
                  <c:v>gyűmölcslé</c:v>
                </c:pt>
                <c:pt idx="6">
                  <c:v>pörkölt kávé</c:v>
                </c:pt>
                <c:pt idx="7">
                  <c:v>ásványvíz</c:v>
                </c:pt>
                <c:pt idx="8">
                  <c:v>étolaj</c:v>
                </c:pt>
                <c:pt idx="9">
                  <c:v>tejföl</c:v>
                </c:pt>
                <c:pt idx="10">
                  <c:v>gyümölcsjoghurt</c:v>
                </c:pt>
                <c:pt idx="11">
                  <c:v>margarin</c:v>
                </c:pt>
                <c:pt idx="12">
                  <c:v>szeletes csoki</c:v>
                </c:pt>
                <c:pt idx="13">
                  <c:v>száraztészta</c:v>
                </c:pt>
                <c:pt idx="14">
                  <c:v>fogkrém</c:v>
                </c:pt>
                <c:pt idx="15">
                  <c:v>női higiénia</c:v>
                </c:pt>
                <c:pt idx="16">
                  <c:v>táblás csoki</c:v>
                </c:pt>
                <c:pt idx="17">
                  <c:v>édes keksz</c:v>
                </c:pt>
                <c:pt idx="18">
                  <c:v>mosogatószer</c:v>
                </c:pt>
                <c:pt idx="19">
                  <c:v>kakaó</c:v>
                </c:pt>
                <c:pt idx="20">
                  <c:v>majonéz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1"/>
                <c:pt idx="0">
                  <c:v>9</c:v>
                </c:pt>
                <c:pt idx="1">
                  <c:v>9</c:v>
                </c:pt>
                <c:pt idx="2">
                  <c:v>10</c:v>
                </c:pt>
                <c:pt idx="3">
                  <c:v>4</c:v>
                </c:pt>
                <c:pt idx="4">
                  <c:v>0</c:v>
                </c:pt>
                <c:pt idx="5">
                  <c:v>10</c:v>
                </c:pt>
                <c:pt idx="6">
                  <c:v>0</c:v>
                </c:pt>
                <c:pt idx="7">
                  <c:v>19</c:v>
                </c:pt>
                <c:pt idx="8">
                  <c:v>7</c:v>
                </c:pt>
                <c:pt idx="9">
                  <c:v>8</c:v>
                </c:pt>
                <c:pt idx="10">
                  <c:v>21</c:v>
                </c:pt>
                <c:pt idx="11">
                  <c:v>-2</c:v>
                </c:pt>
                <c:pt idx="12">
                  <c:v>14</c:v>
                </c:pt>
                <c:pt idx="13">
                  <c:v>10</c:v>
                </c:pt>
                <c:pt idx="14">
                  <c:v>0</c:v>
                </c:pt>
                <c:pt idx="15">
                  <c:v>2</c:v>
                </c:pt>
                <c:pt idx="16">
                  <c:v>2</c:v>
                </c:pt>
                <c:pt idx="17">
                  <c:v>25</c:v>
                </c:pt>
                <c:pt idx="18">
                  <c:v>3</c:v>
                </c:pt>
                <c:pt idx="19">
                  <c:v>16</c:v>
                </c:pt>
                <c:pt idx="20">
                  <c:v>-2</c:v>
                </c:pt>
              </c:numCache>
            </c:numRef>
          </c:val>
        </c:ser>
        <c:gapWidth val="100"/>
        <c:overlap val="0"/>
        <c:axId val="7148941"/>
        <c:axId val="79630014"/>
      </c:barChart>
      <c:catAx>
        <c:axId val="7148941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noFill/>
          </a:ln>
        </c:spPr>
        <c:txPr>
          <a:bodyPr/>
          <a:lstStyle/>
          <a:p>
            <a:pPr>
              <a:defRPr b="0" sz="989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79630014"/>
        <c:crossesAt val="0"/>
        <c:auto val="1"/>
        <c:lblAlgn val="ctr"/>
        <c:lblOffset val="100"/>
        <c:noMultiLvlLbl val="0"/>
      </c:catAx>
      <c:valAx>
        <c:axId val="79630014"/>
        <c:scaling>
          <c:orientation val="minMax"/>
          <c:max val="28"/>
          <c:min val="-3"/>
        </c:scaling>
        <c:delete val="0"/>
        <c:axPos val="l"/>
        <c:numFmt formatCode="General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1420" spc="-1" strike="noStrike">
                <a:solidFill>
                  <a:srgbClr val="000000"/>
                </a:solidFill>
                <a:latin typeface="Arial"/>
                <a:ea typeface="Tahoma"/>
              </a:defRPr>
            </a:pPr>
          </a:p>
        </c:txPr>
        <c:crossAx val="7148941"/>
        <c:crosses val="min"/>
        <c:crossBetween val="between"/>
      </c:valAx>
      <c:spPr>
        <a:solidFill>
          <a:srgbClr val="ffffcc"/>
        </a:solidFill>
        <a:ln w="0">
          <a:noFill/>
        </a:ln>
      </c:spPr>
    </c:plotArea>
    <c:plotVisOnly val="0"/>
    <c:dispBlanksAs val="gap"/>
  </c:chart>
  <c:spPr>
    <a:solidFill>
      <a:srgbClr val="ffffcc"/>
    </a:solidFill>
    <a:ln w="0">
      <a:solidFill>
        <a:srgbClr val="000000"/>
      </a:solidFill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chart" Target="../charts/chart1.xml"/><Relationship Id="rId5" Type="http://schemas.openxmlformats.org/officeDocument/2006/relationships/chart" Target="../charts/chart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chart" Target="../charts/chart3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chart" Target="../charts/chart4.xml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chart" Target="../charts/chart6.xml"/><Relationship Id="rId5" Type="http://schemas.openxmlformats.org/officeDocument/2006/relationships/chart" Target="../charts/chart7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chart" Target="../charts/chart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39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41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0720" y="665316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74960" y="2332080"/>
            <a:ext cx="5673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178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180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7" name=""/>
          <p:cNvSpPr/>
          <p:nvPr/>
        </p:nvSpPr>
        <p:spPr>
          <a:xfrm>
            <a:off x="2166840" y="3189240"/>
            <a:ext cx="73026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Ez nem paradigmaváltás, hanem a meglévő rendszer toldozása-foltozás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20160" y="462600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8960" y="5591160"/>
            <a:ext cx="245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egy környezetvéd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11840" y="545292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" y="470700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90720" y="665316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1047600" y="4313160"/>
            <a:ext cx="2927520" cy="424080"/>
            <a:chOff x="1047600" y="4313160"/>
            <a:chExt cx="2927520" cy="424080"/>
          </a:xfrm>
        </p:grpSpPr>
        <p:sp>
          <p:nvSpPr>
            <p:cNvPr id="198" name=""/>
            <p:cNvSpPr/>
            <p:nvPr/>
          </p:nvSpPr>
          <p:spPr>
            <a:xfrm>
              <a:off x="1047600" y="4313160"/>
              <a:ext cx="2927520" cy="42408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047600" y="4313160"/>
              <a:ext cx="2926080" cy="420840"/>
              <a:chOff x="1047600" y="4313160"/>
              <a:chExt cx="2926080" cy="420840"/>
            </a:xfrm>
          </p:grpSpPr>
          <p:sp>
            <p:nvSpPr>
              <p:cNvPr id="200" name=""/>
              <p:cNvSpPr/>
              <p:nvPr/>
            </p:nvSpPr>
            <p:spPr>
              <a:xfrm>
                <a:off x="1047600" y="4313160"/>
                <a:ext cx="2926080" cy="4208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047600" y="4313160"/>
                <a:ext cx="2924280" cy="419040"/>
                <a:chOff x="1047600" y="4313160"/>
                <a:chExt cx="2924280" cy="4190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047600" y="4313160"/>
                  <a:ext cx="2924280" cy="419040"/>
                </a:xfrm>
                <a:prstGeom prst="roundRect">
                  <a:avLst>
                    <a:gd name="adj" fmla="val 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1047600" y="4313160"/>
                  <a:ext cx="2924280" cy="419040"/>
                  <a:chOff x="1047600" y="4313160"/>
                  <a:chExt cx="2924280" cy="41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047600" y="4313160"/>
                    <a:ext cx="2924280" cy="41904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1128960" y="4313160"/>
                    <a:ext cx="2759760" cy="35640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2798"/>
                      </a:lnSpc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800" spc="-1" strike="noStrike">
                        <a:solidFill>
                          <a:srgbClr val="000000"/>
                        </a:solidFill>
                        <a:latin typeface="Verdana"/>
                      </a:rPr>
                      <a:t>Közös felelősség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6" name=""/>
          <p:cNvGrpSpPr/>
          <p:nvPr/>
        </p:nvGrpSpPr>
        <p:grpSpPr>
          <a:xfrm>
            <a:off x="993600" y="2490840"/>
            <a:ext cx="7550280" cy="1382760"/>
            <a:chOff x="993600" y="2490840"/>
            <a:chExt cx="7550280" cy="1382760"/>
          </a:xfrm>
        </p:grpSpPr>
        <p:sp>
          <p:nvSpPr>
            <p:cNvPr id="207" name=""/>
            <p:cNvSpPr/>
            <p:nvPr/>
          </p:nvSpPr>
          <p:spPr>
            <a:xfrm>
              <a:off x="993600" y="2490840"/>
              <a:ext cx="7550280" cy="138276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993600" y="2490840"/>
              <a:ext cx="7548840" cy="1379520"/>
              <a:chOff x="993600" y="2490840"/>
              <a:chExt cx="7548840" cy="137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993600" y="2490840"/>
                <a:ext cx="7548840" cy="1379520"/>
              </a:xfrm>
              <a:prstGeom prst="roundRect">
                <a:avLst>
                  <a:gd name="adj" fmla="val 11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993600" y="2490840"/>
                <a:ext cx="7547040" cy="1377720"/>
                <a:chOff x="993600" y="2490840"/>
                <a:chExt cx="7547040" cy="137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993600" y="2490840"/>
                  <a:ext cx="7547040" cy="1377720"/>
                </a:xfrm>
                <a:prstGeom prst="roundRect">
                  <a:avLst>
                    <a:gd name="adj" fmla="val 1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993600" y="2490840"/>
                  <a:ext cx="7545600" cy="1377720"/>
                  <a:chOff x="993600" y="2490840"/>
                  <a:chExt cx="7545600" cy="13777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993600" y="2490840"/>
                    <a:ext cx="7545600" cy="1377720"/>
                  </a:xfrm>
                  <a:prstGeom prst="roundRect">
                    <a:avLst>
                      <a:gd name="adj" fmla="val 11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369800" y="2490840"/>
                    <a:ext cx="6791040" cy="1355760"/>
                  </a:xfrm>
                  <a:prstGeom prst="roundRect">
                    <a:avLst>
                      <a:gd name="adj" fmla="val 11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4022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4343400"/>
                        <a:tab algn="l" pos="5067360"/>
                        <a:tab algn="l" pos="5791320"/>
                        <a:tab algn="l" pos="6515280"/>
                        <a:tab algn="l" pos="723888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4000" spc="-1" strike="noStrike">
                        <a:solidFill>
                          <a:srgbClr val="800000"/>
                        </a:solidFill>
                        <a:latin typeface="Verdana"/>
                      </a:rPr>
                      <a:t>Paradigmaváltás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1000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4343400"/>
                        <a:tab algn="l" pos="5067360"/>
                        <a:tab algn="l" pos="5791320"/>
                        <a:tab algn="l" pos="6515280"/>
                        <a:tab algn="l" pos="723888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4000" spc="-1" strike="noStrike">
                        <a:solidFill>
                          <a:srgbClr val="800000"/>
                        </a:solidFill>
                        <a:latin typeface="Verdana"/>
                      </a:rPr>
                      <a:t>a hulladékgazdálkodásban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5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216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221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30280" y="1984320"/>
          <a:ext cx="8967600" cy="46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984320"/>
                    <a:ext cx="89676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"/>
          <p:cNvGrpSpPr/>
          <p:nvPr/>
        </p:nvGrpSpPr>
        <p:grpSpPr>
          <a:xfrm>
            <a:off x="1073520" y="1389240"/>
            <a:ext cx="5199480" cy="671400"/>
            <a:chOff x="1073520" y="1389240"/>
            <a:chExt cx="5199480" cy="671400"/>
          </a:xfrm>
        </p:grpSpPr>
        <p:sp>
          <p:nvSpPr>
            <p:cNvPr id="238" name=""/>
            <p:cNvSpPr/>
            <p:nvPr/>
          </p:nvSpPr>
          <p:spPr>
            <a:xfrm>
              <a:off x="1261440" y="1389240"/>
              <a:ext cx="501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00000"/>
                  </a:solidFill>
                  <a:latin typeface="Verdana"/>
                </a:rPr>
                <a:t>Hulladékgazdálkodási hierarch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3520" y="1755720"/>
              <a:ext cx="152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00"/>
                  </a:solidFill>
                  <a:latin typeface="Verdana"/>
                </a:rPr>
                <a:t>Az OECD sze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241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243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2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0280" y="1984320"/>
          <a:ext cx="8967600" cy="46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984320"/>
                    <a:ext cx="89676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1120320" y="1389240"/>
            <a:ext cx="5152680" cy="671400"/>
            <a:chOff x="1120320" y="1389240"/>
            <a:chExt cx="5152680" cy="671400"/>
          </a:xfrm>
        </p:grpSpPr>
        <p:sp>
          <p:nvSpPr>
            <p:cNvPr id="255" name=""/>
            <p:cNvSpPr/>
            <p:nvPr/>
          </p:nvSpPr>
          <p:spPr>
            <a:xfrm>
              <a:off x="1261440" y="1389240"/>
              <a:ext cx="501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00000"/>
                  </a:solidFill>
                  <a:latin typeface="Verdana"/>
                </a:rPr>
                <a:t>Hulladékgazdálkodási hierarch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20320" y="1755720"/>
              <a:ext cx="1594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00"/>
                  </a:solidFill>
                  <a:latin typeface="Verdana"/>
                </a:rPr>
                <a:t>Az OECD sze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258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260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5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2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0280" y="1984320"/>
          <a:ext cx="8967600" cy="46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984320"/>
                    <a:ext cx="89676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1073520" y="1389240"/>
            <a:ext cx="5199480" cy="671400"/>
            <a:chOff x="1073520" y="1389240"/>
            <a:chExt cx="5199480" cy="671400"/>
          </a:xfrm>
        </p:grpSpPr>
        <p:sp>
          <p:nvSpPr>
            <p:cNvPr id="272" name=""/>
            <p:cNvSpPr/>
            <p:nvPr/>
          </p:nvSpPr>
          <p:spPr>
            <a:xfrm>
              <a:off x="1261440" y="1389240"/>
              <a:ext cx="501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00000"/>
                  </a:solidFill>
                  <a:latin typeface="Verdana"/>
                </a:rPr>
                <a:t>Hulladékgazdálkodási hierarch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73520" y="1755720"/>
              <a:ext cx="152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00"/>
                  </a:solidFill>
                  <a:latin typeface="Verdana"/>
                </a:rPr>
                <a:t>Az OECD sze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275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2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30280" y="1984320"/>
          <a:ext cx="8967600" cy="46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984320"/>
                    <a:ext cx="89676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1073520" y="1389240"/>
            <a:ext cx="5199480" cy="671400"/>
            <a:chOff x="1073520" y="1389240"/>
            <a:chExt cx="5199480" cy="671400"/>
          </a:xfrm>
        </p:grpSpPr>
        <p:sp>
          <p:nvSpPr>
            <p:cNvPr id="289" name=""/>
            <p:cNvSpPr/>
            <p:nvPr/>
          </p:nvSpPr>
          <p:spPr>
            <a:xfrm>
              <a:off x="1261440" y="1389240"/>
              <a:ext cx="501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00000"/>
                  </a:solidFill>
                  <a:latin typeface="Verdana"/>
                </a:rPr>
                <a:t>Hulladékgazdálkodási hierarch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3520" y="1755720"/>
              <a:ext cx="152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00"/>
                  </a:solidFill>
                  <a:latin typeface="Verdana"/>
                </a:rPr>
                <a:t>Az OECD sze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292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2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3470400" y="3497400"/>
          <a:ext cx="3949560" cy="211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0400" y="3497400"/>
                    <a:ext cx="39495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30280" y="1320840"/>
          <a:ext cx="8967600" cy="559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320840"/>
                    <a:ext cx="89676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073520" y="1387440"/>
            <a:ext cx="5199480" cy="673200"/>
            <a:chOff x="1073520" y="1387440"/>
            <a:chExt cx="5199480" cy="673200"/>
          </a:xfrm>
        </p:grpSpPr>
        <p:sp>
          <p:nvSpPr>
            <p:cNvPr id="306" name=""/>
            <p:cNvSpPr/>
            <p:nvPr/>
          </p:nvSpPr>
          <p:spPr>
            <a:xfrm>
              <a:off x="1261440" y="1387440"/>
              <a:ext cx="501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800000"/>
                  </a:solidFill>
                  <a:latin typeface="Verdana"/>
                </a:rPr>
                <a:t>Hulladékgazdálkodási hierarch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73520" y="1755720"/>
              <a:ext cx="152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0000"/>
                  </a:solidFill>
                  <a:latin typeface="Verdana"/>
                </a:rPr>
                <a:t>Az OECD sze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309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311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0"/>
            <a:ext cx="10080720" cy="1866960"/>
            <a:chOff x="0" y="0"/>
            <a:chExt cx="10080720" cy="1866960"/>
          </a:xfrm>
        </p:grpSpPr>
        <p:sp>
          <p:nvSpPr>
            <p:cNvPr id="319" name=""/>
            <p:cNvSpPr/>
            <p:nvPr/>
          </p:nvSpPr>
          <p:spPr>
            <a:xfrm>
              <a:off x="0" y="149400"/>
              <a:ext cx="100807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79880" y="184320"/>
              <a:ext cx="3870360" cy="659520"/>
              <a:chOff x="4079880" y="184320"/>
              <a:chExt cx="3870360" cy="659520"/>
            </a:xfrm>
          </p:grpSpPr>
          <p:sp>
            <p:nvSpPr>
              <p:cNvPr id="321" name=""/>
              <p:cNvSpPr/>
              <p:nvPr/>
            </p:nvSpPr>
            <p:spPr>
              <a:xfrm>
                <a:off x="4079880" y="184320"/>
                <a:ext cx="38401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8000"/>
                    </a:solidFill>
                    <a:latin typeface="Times New Roman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10120" y="554040"/>
                <a:ext cx="3840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Times New Roman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149720" y="939960"/>
              <a:ext cx="30412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8213760" y="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"/>
            <p:cNvGrpSpPr/>
            <p:nvPr/>
          </p:nvGrpSpPr>
          <p:grpSpPr>
            <a:xfrm>
              <a:off x="3414600" y="252360"/>
              <a:ext cx="542880" cy="819360"/>
              <a:chOff x="3414600" y="252360"/>
              <a:chExt cx="542880" cy="819360"/>
            </a:xfrm>
          </p:grpSpPr>
          <p:pic>
            <p:nvPicPr>
              <p:cNvPr id="3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4600" y="747720"/>
                <a:ext cx="540000" cy="32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8" name=""/>
          <p:cNvSpPr/>
          <p:nvPr/>
        </p:nvSpPr>
        <p:spPr>
          <a:xfrm>
            <a:off x="358920" y="2054160"/>
            <a:ext cx="88963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Times New Roman"/>
              </a:rPr>
              <a:t>Hulladékmegelőzé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waste preven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) Szigorú elkerü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) A forrásnál történő csökken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) Újrahaszn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sökkentjük a </a:t>
            </a: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keletkező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hulladék mennyiség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) A </a:t>
            </a:r>
            <a:r>
              <a:rPr b="1" lang="en-GB" sz="2000" spc="-1" strike="noStrike">
                <a:solidFill>
                  <a:srgbClr val="800000"/>
                </a:solidFill>
                <a:latin typeface="Times New Roman"/>
              </a:rPr>
              <a:t>hulladékcsökkenté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waste mini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) a keletkező hulladék mennyisége csö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) a komponensek veszélyessége csö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GB" sz="2000" spc="-1" strike="noStrike">
                <a:solidFill>
                  <a:srgbClr val="800000"/>
                </a:solidFill>
                <a:latin typeface="Times New Roman"/>
              </a:rPr>
              <a:t>Újrahasznosítá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nyersanyaghasznosítás (recyc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ulladékanyagok felhaszná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ulladékválogat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ő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sökkentjük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ártalmatlanításr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(lerakás, égetés) kerülő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ulladékok mennyiség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600" y="1496880"/>
            <a:ext cx="150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Fogalm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598320" y="1538280"/>
            <a:ext cx="3935520" cy="423720"/>
            <a:chOff x="598320" y="1538280"/>
            <a:chExt cx="3935520" cy="423720"/>
          </a:xfrm>
        </p:grpSpPr>
        <p:sp>
          <p:nvSpPr>
            <p:cNvPr id="331" name=""/>
            <p:cNvSpPr/>
            <p:nvPr/>
          </p:nvSpPr>
          <p:spPr>
            <a:xfrm>
              <a:off x="598320" y="1538280"/>
              <a:ext cx="3935520" cy="42372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598320" y="1538280"/>
              <a:ext cx="3934080" cy="420840"/>
              <a:chOff x="598320" y="1538280"/>
              <a:chExt cx="3934080" cy="420840"/>
            </a:xfrm>
          </p:grpSpPr>
          <p:sp>
            <p:nvSpPr>
              <p:cNvPr id="333" name=""/>
              <p:cNvSpPr/>
              <p:nvPr/>
            </p:nvSpPr>
            <p:spPr>
              <a:xfrm>
                <a:off x="598320" y="1538280"/>
                <a:ext cx="3934080" cy="4208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598320" y="1538280"/>
                <a:ext cx="3932280" cy="419040"/>
                <a:chOff x="598320" y="1538280"/>
                <a:chExt cx="3932280" cy="4190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98320" y="1538280"/>
                  <a:ext cx="3932280" cy="419040"/>
                </a:xfrm>
                <a:prstGeom prst="roundRect">
                  <a:avLst>
                    <a:gd name="adj" fmla="val 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598320" y="1538280"/>
                  <a:ext cx="3930840" cy="419040"/>
                  <a:chOff x="598320" y="1538280"/>
                  <a:chExt cx="3930840" cy="4190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8320" y="1538280"/>
                    <a:ext cx="3930840" cy="41904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20800" y="1538280"/>
                    <a:ext cx="3484440" cy="30492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2398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800000"/>
                        </a:solidFill>
                        <a:latin typeface="Verdana"/>
                      </a:rPr>
                      <a:t>Cél: kevesebb hulladé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39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340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345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3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7" name=""/>
          <p:cNvSpPr/>
          <p:nvPr/>
        </p:nvSpPr>
        <p:spPr>
          <a:xfrm>
            <a:off x="449280" y="2509920"/>
            <a:ext cx="563868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a környezetterhelés csökken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vesebb energia és nyersanyag felhaszn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tisztább term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evesebb csomag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598320" y="1538280"/>
            <a:ext cx="3935520" cy="423720"/>
            <a:chOff x="598320" y="1538280"/>
            <a:chExt cx="3935520" cy="423720"/>
          </a:xfrm>
        </p:grpSpPr>
        <p:sp>
          <p:nvSpPr>
            <p:cNvPr id="359" name=""/>
            <p:cNvSpPr/>
            <p:nvPr/>
          </p:nvSpPr>
          <p:spPr>
            <a:xfrm>
              <a:off x="598320" y="1538280"/>
              <a:ext cx="3935520" cy="42372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98320" y="1538280"/>
              <a:ext cx="3934080" cy="420840"/>
              <a:chOff x="598320" y="1538280"/>
              <a:chExt cx="3934080" cy="420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98320" y="1538280"/>
                <a:ext cx="3934080" cy="4208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98320" y="1538280"/>
                <a:ext cx="3932280" cy="419040"/>
                <a:chOff x="598320" y="1538280"/>
                <a:chExt cx="3932280" cy="4190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8320" y="1538280"/>
                  <a:ext cx="3932280" cy="419040"/>
                </a:xfrm>
                <a:prstGeom prst="roundRect">
                  <a:avLst>
                    <a:gd name="adj" fmla="val 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598320" y="1538280"/>
                  <a:ext cx="3930840" cy="419040"/>
                  <a:chOff x="598320" y="1538280"/>
                  <a:chExt cx="3930840" cy="4190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98320" y="1538280"/>
                    <a:ext cx="3930840" cy="41904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20800" y="1538280"/>
                    <a:ext cx="3484440" cy="30492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2398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800000"/>
                        </a:solidFill>
                        <a:latin typeface="Verdana"/>
                      </a:rPr>
                      <a:t>Cél: kevesebb hulladé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67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368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370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373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2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3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5" name=""/>
          <p:cNvSpPr/>
          <p:nvPr/>
        </p:nvSpPr>
        <p:spPr>
          <a:xfrm>
            <a:off x="503280" y="2060640"/>
            <a:ext cx="678492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a gazdasági fejlődés és a környezetterhelés szét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 hulladéktermelés csökkentése a fogyasztáshoz ké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 hulladékgazdálkodás externális hatásainak csökken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52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54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" name=""/>
          <p:cNvSpPr/>
          <p:nvPr/>
        </p:nvSpPr>
        <p:spPr>
          <a:xfrm>
            <a:off x="2166840" y="3189240"/>
            <a:ext cx="7302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Nem érdekünk a megelőzés,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a hulladékból élün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2280" y="400356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63160" y="4927680"/>
            <a:ext cx="5801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fiatal munkatárs a kommunális szolgáltatóná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598320" y="1538280"/>
            <a:ext cx="3935520" cy="423720"/>
            <a:chOff x="598320" y="1538280"/>
            <a:chExt cx="3935520" cy="423720"/>
          </a:xfrm>
        </p:grpSpPr>
        <p:sp>
          <p:nvSpPr>
            <p:cNvPr id="387" name=""/>
            <p:cNvSpPr/>
            <p:nvPr/>
          </p:nvSpPr>
          <p:spPr>
            <a:xfrm>
              <a:off x="598320" y="1538280"/>
              <a:ext cx="3935520" cy="42372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98320" y="1538280"/>
              <a:ext cx="3934080" cy="420840"/>
              <a:chOff x="598320" y="1538280"/>
              <a:chExt cx="3934080" cy="420840"/>
            </a:xfrm>
          </p:grpSpPr>
          <p:sp>
            <p:nvSpPr>
              <p:cNvPr id="389" name=""/>
              <p:cNvSpPr/>
              <p:nvPr/>
            </p:nvSpPr>
            <p:spPr>
              <a:xfrm>
                <a:off x="598320" y="1538280"/>
                <a:ext cx="3934080" cy="4208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98320" y="1538280"/>
                <a:ext cx="3932280" cy="419040"/>
                <a:chOff x="598320" y="1538280"/>
                <a:chExt cx="3932280" cy="4190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98320" y="1538280"/>
                  <a:ext cx="3932280" cy="419040"/>
                </a:xfrm>
                <a:prstGeom prst="roundRect">
                  <a:avLst>
                    <a:gd name="adj" fmla="val 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598320" y="1538280"/>
                  <a:ext cx="3930840" cy="419040"/>
                  <a:chOff x="598320" y="1538280"/>
                  <a:chExt cx="3930840" cy="4190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598320" y="1538280"/>
                    <a:ext cx="3930840" cy="41904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20800" y="1538280"/>
                    <a:ext cx="3484440" cy="30492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2398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800000"/>
                        </a:solidFill>
                        <a:latin typeface="Verdana"/>
                      </a:rPr>
                      <a:t>Cél: kevesebb hulladé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5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396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398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401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4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3" name=""/>
          <p:cNvSpPr/>
          <p:nvPr/>
        </p:nvSpPr>
        <p:spPr>
          <a:xfrm>
            <a:off x="503280" y="2060640"/>
            <a:ext cx="744840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)  az ártalmatlanítás-centrikus hulladékgazdálkodás átállítása megelőzés központú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evesebb lerak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evesebb ég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több haszno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omposzt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újrahaszná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csökkentés a forrás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598320" y="1538280"/>
            <a:ext cx="3935520" cy="423720"/>
            <a:chOff x="598320" y="1538280"/>
            <a:chExt cx="3935520" cy="423720"/>
          </a:xfrm>
        </p:grpSpPr>
        <p:sp>
          <p:nvSpPr>
            <p:cNvPr id="415" name=""/>
            <p:cNvSpPr/>
            <p:nvPr/>
          </p:nvSpPr>
          <p:spPr>
            <a:xfrm>
              <a:off x="598320" y="1538280"/>
              <a:ext cx="3935520" cy="423720"/>
            </a:xfrm>
            <a:prstGeom prst="roundRect">
              <a:avLst>
                <a:gd name="adj" fmla="val 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98320" y="1538280"/>
              <a:ext cx="3934080" cy="420840"/>
              <a:chOff x="598320" y="1538280"/>
              <a:chExt cx="3934080" cy="420840"/>
            </a:xfrm>
          </p:grpSpPr>
          <p:sp>
            <p:nvSpPr>
              <p:cNvPr id="417" name=""/>
              <p:cNvSpPr/>
              <p:nvPr/>
            </p:nvSpPr>
            <p:spPr>
              <a:xfrm>
                <a:off x="598320" y="1538280"/>
                <a:ext cx="3934080" cy="42084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598320" y="1538280"/>
                <a:ext cx="3932280" cy="419040"/>
                <a:chOff x="598320" y="1538280"/>
                <a:chExt cx="3932280" cy="419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98320" y="1538280"/>
                  <a:ext cx="3932280" cy="419040"/>
                </a:xfrm>
                <a:prstGeom prst="roundRect">
                  <a:avLst>
                    <a:gd name="adj" fmla="val 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598320" y="1538280"/>
                  <a:ext cx="3930840" cy="419040"/>
                  <a:chOff x="598320" y="1538280"/>
                  <a:chExt cx="3930840" cy="4190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598320" y="1538280"/>
                    <a:ext cx="3930840" cy="41904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820800" y="1538280"/>
                    <a:ext cx="3484440" cy="304920"/>
                  </a:xfrm>
                  <a:prstGeom prst="roundRect">
                    <a:avLst>
                      <a:gd name="adj" fmla="val 37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2398"/>
                      </a:lnSpc>
                      <a:spcBef>
                        <a:spcPts val="1199"/>
                      </a:spcBef>
                      <a:spcAft>
                        <a:spcPts val="601"/>
                      </a:spcAft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800000"/>
                        </a:solidFill>
                        <a:latin typeface="Verdana"/>
                      </a:rPr>
                      <a:t>Cél: kevesebb hulladé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23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424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426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429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8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4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1" name=""/>
          <p:cNvSpPr/>
          <p:nvPr/>
        </p:nvSpPr>
        <p:spPr>
          <a:xfrm>
            <a:off x="503280" y="2060640"/>
            <a:ext cx="50324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) fogyasztáscsökkentés, a fogyasztás mintázatának megváltozt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 luxusfogyasztás visszafog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 silány termékek visszaszor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443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445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448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4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460" name=""/>
          <p:cNvGraphicFramePr/>
          <p:nvPr/>
        </p:nvGraphicFramePr>
        <p:xfrm>
          <a:off x="708120" y="2584440"/>
          <a:ext cx="8542080" cy="3552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120" y="2584440"/>
                    <a:ext cx="8542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916560" y="1697040"/>
            <a:ext cx="248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Közös felelő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464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466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469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4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7" name=""/>
          <p:cNvGrpSpPr/>
          <p:nvPr/>
        </p:nvGrpSpPr>
        <p:grpSpPr>
          <a:xfrm>
            <a:off x="785880" y="2635200"/>
            <a:ext cx="2527200" cy="719280"/>
            <a:chOff x="785880" y="2635200"/>
            <a:chExt cx="2527200" cy="719280"/>
          </a:xfrm>
        </p:grpSpPr>
        <p:sp>
          <p:nvSpPr>
            <p:cNvPr id="478" name=""/>
            <p:cNvSpPr/>
            <p:nvPr/>
          </p:nvSpPr>
          <p:spPr>
            <a:xfrm>
              <a:off x="785880" y="2635200"/>
              <a:ext cx="25272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85880" y="2635200"/>
              <a:ext cx="2527200" cy="719280"/>
              <a:chOff x="785880" y="2635200"/>
              <a:chExt cx="2527200" cy="719280"/>
            </a:xfrm>
          </p:grpSpPr>
          <p:sp>
            <p:nvSpPr>
              <p:cNvPr id="480" name=""/>
              <p:cNvSpPr/>
              <p:nvPr/>
            </p:nvSpPr>
            <p:spPr>
              <a:xfrm>
                <a:off x="785880" y="2635200"/>
                <a:ext cx="2527200" cy="71928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79840" y="2635200"/>
                <a:ext cx="2340720" cy="61020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Adatok, </a:t>
                </a:r>
                <a:br>
                  <a:rPr sz="2400"/>
                </a:b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helyzetelemzé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676440" y="3962520"/>
            <a:ext cx="371304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lós adatbázis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elyzetelemz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okok elemz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rendek vizsgálata és elemez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Életciklus elemzés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444920" y="1641600"/>
          <a:ext cx="4892760" cy="3051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715000" y="4789440"/>
          <a:ext cx="3629160" cy="2530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486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488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491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4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99" name=""/>
          <p:cNvGrpSpPr/>
          <p:nvPr/>
        </p:nvGrpSpPr>
        <p:grpSpPr>
          <a:xfrm>
            <a:off x="758880" y="1944720"/>
            <a:ext cx="3755880" cy="366840"/>
            <a:chOff x="758880" y="1944720"/>
            <a:chExt cx="3755880" cy="366840"/>
          </a:xfrm>
        </p:grpSpPr>
        <p:sp>
          <p:nvSpPr>
            <p:cNvPr id="500" name=""/>
            <p:cNvSpPr/>
            <p:nvPr/>
          </p:nvSpPr>
          <p:spPr>
            <a:xfrm>
              <a:off x="758880" y="1944720"/>
              <a:ext cx="375588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58880" y="1944720"/>
              <a:ext cx="3755880" cy="366840"/>
              <a:chOff x="758880" y="1944720"/>
              <a:chExt cx="3755880" cy="366840"/>
            </a:xfrm>
          </p:grpSpPr>
          <p:sp>
            <p:nvSpPr>
              <p:cNvPr id="502" name=""/>
              <p:cNvSpPr/>
              <p:nvPr/>
            </p:nvSpPr>
            <p:spPr>
              <a:xfrm>
                <a:off x="758880" y="1944720"/>
                <a:ext cx="375588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74880" y="1944720"/>
                <a:ext cx="332388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Adók, járulékok, díja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257760" y="2571840"/>
            <a:ext cx="6041160" cy="4467240"/>
            <a:chOff x="257760" y="2571840"/>
            <a:chExt cx="6041160" cy="4467240"/>
          </a:xfrm>
        </p:grpSpPr>
        <p:sp>
          <p:nvSpPr>
            <p:cNvPr id="505" name=""/>
            <p:cNvSpPr/>
            <p:nvPr/>
          </p:nvSpPr>
          <p:spPr>
            <a:xfrm>
              <a:off x="952560" y="2571840"/>
              <a:ext cx="4653000" cy="44654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257760" y="2573280"/>
              <a:ext cx="6041160" cy="4465800"/>
              <a:chOff x="257760" y="2573280"/>
              <a:chExt cx="6041160" cy="4465800"/>
            </a:xfrm>
          </p:grpSpPr>
          <p:sp>
            <p:nvSpPr>
              <p:cNvPr id="507" name=""/>
              <p:cNvSpPr/>
              <p:nvPr/>
            </p:nvSpPr>
            <p:spPr>
              <a:xfrm>
                <a:off x="952560" y="2573280"/>
                <a:ext cx="4653000" cy="4465800"/>
              </a:xfrm>
              <a:prstGeom prst="roundRect">
                <a:avLst>
                  <a:gd name="adj" fmla="val 3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7760" y="2573280"/>
                <a:ext cx="6041160" cy="4007520"/>
              </a:xfrm>
              <a:prstGeom prst="roundRect">
                <a:avLst>
                  <a:gd name="adj" fmla="val 3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Ártalmatlanítási ad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 lerakás és az égetés drágí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Fogyasztási adó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 luxusfogyasztás adózta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ldobó ad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ermékdíj, licenszdí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z újrahasználható termékek kedvezmény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ÁFA-kedvezmény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9" name=""/>
          <p:cNvGraphicFramePr/>
          <p:nvPr/>
        </p:nvGraphicFramePr>
        <p:xfrm>
          <a:off x="6097680" y="2197080"/>
          <a:ext cx="3529080" cy="3398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511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513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516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5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24" name=""/>
          <p:cNvGrpSpPr/>
          <p:nvPr/>
        </p:nvGrpSpPr>
        <p:grpSpPr>
          <a:xfrm>
            <a:off x="811080" y="2031840"/>
            <a:ext cx="1704960" cy="366840"/>
            <a:chOff x="811080" y="2031840"/>
            <a:chExt cx="1704960" cy="366840"/>
          </a:xfrm>
        </p:grpSpPr>
        <p:sp>
          <p:nvSpPr>
            <p:cNvPr id="525" name=""/>
            <p:cNvSpPr/>
            <p:nvPr/>
          </p:nvSpPr>
          <p:spPr>
            <a:xfrm>
              <a:off x="811080" y="2031840"/>
              <a:ext cx="170496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811080" y="2031840"/>
              <a:ext cx="1704960" cy="366840"/>
              <a:chOff x="811080" y="2031840"/>
              <a:chExt cx="1704960" cy="366840"/>
            </a:xfrm>
          </p:grpSpPr>
          <p:sp>
            <p:nvSpPr>
              <p:cNvPr id="527" name=""/>
              <p:cNvSpPr/>
              <p:nvPr/>
            </p:nvSpPr>
            <p:spPr>
              <a:xfrm>
                <a:off x="811080" y="2031840"/>
                <a:ext cx="170496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19080" y="2031840"/>
                <a:ext cx="148896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Szemétdí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365400" y="2830680"/>
            <a:ext cx="5129280" cy="3949560"/>
            <a:chOff x="365400" y="2830680"/>
            <a:chExt cx="5129280" cy="3949560"/>
          </a:xfrm>
        </p:grpSpPr>
        <p:sp>
          <p:nvSpPr>
            <p:cNvPr id="530" name=""/>
            <p:cNvSpPr/>
            <p:nvPr/>
          </p:nvSpPr>
          <p:spPr>
            <a:xfrm>
              <a:off x="446040" y="2830680"/>
              <a:ext cx="4964040" cy="394956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365400" y="2830680"/>
              <a:ext cx="5129280" cy="3949560"/>
              <a:chOff x="365400" y="2830680"/>
              <a:chExt cx="5129280" cy="3949560"/>
            </a:xfrm>
          </p:grpSpPr>
          <p:sp>
            <p:nvSpPr>
              <p:cNvPr id="532" name=""/>
              <p:cNvSpPr/>
              <p:nvPr/>
            </p:nvSpPr>
            <p:spPr>
              <a:xfrm>
                <a:off x="446040" y="2830680"/>
                <a:ext cx="4964040" cy="3949560"/>
              </a:xfrm>
              <a:prstGeom prst="roundRect">
                <a:avLst>
                  <a:gd name="adj" fmla="val 3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5400" y="2830680"/>
                <a:ext cx="5129280" cy="3222720"/>
              </a:xfrm>
              <a:prstGeom prst="roundRect">
                <a:avLst>
                  <a:gd name="adj" fmla="val 3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legyen differenciál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26960" indent="-2160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szelektált hulladék díja legyen alacson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26960" indent="-2160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vegyes hulladék díja legyen maga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legyen teljesítményarány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26960" indent="-2160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kevesebb szemét = alacsonyabb díj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200" spc="-1" strike="noStrike">
                    <a:solidFill>
                      <a:srgbClr val="000000"/>
                    </a:solidFill>
                    <a:latin typeface="Times New Roman"/>
                  </a:rPr>
                  <a:t>polgári jogviszon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26960" indent="-2160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kommunális adó kiváltás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34" name=""/>
          <p:cNvGraphicFramePr/>
          <p:nvPr/>
        </p:nvGraphicFramePr>
        <p:xfrm>
          <a:off x="5950080" y="1357200"/>
          <a:ext cx="3711600" cy="2914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5033880" y="4413240"/>
          <a:ext cx="4667400" cy="2979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537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539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5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0" name=""/>
          <p:cNvGrpSpPr/>
          <p:nvPr/>
        </p:nvGrpSpPr>
        <p:grpSpPr>
          <a:xfrm>
            <a:off x="673200" y="1665360"/>
            <a:ext cx="4987800" cy="903600"/>
            <a:chOff x="673200" y="1665360"/>
            <a:chExt cx="4987800" cy="903600"/>
          </a:xfrm>
        </p:grpSpPr>
        <p:sp>
          <p:nvSpPr>
            <p:cNvPr id="551" name=""/>
            <p:cNvSpPr/>
            <p:nvPr/>
          </p:nvSpPr>
          <p:spPr>
            <a:xfrm>
              <a:off x="673200" y="1665360"/>
              <a:ext cx="4986360" cy="885600"/>
            </a:xfrm>
            <a:prstGeom prst="roundRect">
              <a:avLst>
                <a:gd name="adj" fmla="val 17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674640" y="1665360"/>
              <a:ext cx="4986360" cy="903600"/>
              <a:chOff x="674640" y="1665360"/>
              <a:chExt cx="4986360" cy="903600"/>
            </a:xfrm>
          </p:grpSpPr>
          <p:sp>
            <p:nvSpPr>
              <p:cNvPr id="553" name=""/>
              <p:cNvSpPr/>
              <p:nvPr/>
            </p:nvSpPr>
            <p:spPr>
              <a:xfrm>
                <a:off x="674640" y="1665360"/>
                <a:ext cx="4986360" cy="8856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48240" y="1665360"/>
                <a:ext cx="4439160" cy="9036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Jogalkalmazó állampolgárok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1000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jogérvényesítő áll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1116000" y="3143160"/>
            <a:ext cx="6891480" cy="3086280"/>
            <a:chOff x="1116000" y="3143160"/>
            <a:chExt cx="6891480" cy="3086280"/>
          </a:xfrm>
        </p:grpSpPr>
        <p:sp>
          <p:nvSpPr>
            <p:cNvPr id="556" name=""/>
            <p:cNvSpPr/>
            <p:nvPr/>
          </p:nvSpPr>
          <p:spPr>
            <a:xfrm>
              <a:off x="1116000" y="3143160"/>
              <a:ext cx="6891480" cy="308628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116000" y="3143160"/>
              <a:ext cx="6891480" cy="3086280"/>
              <a:chOff x="1116000" y="3143160"/>
              <a:chExt cx="6891480" cy="3086280"/>
            </a:xfrm>
          </p:grpSpPr>
          <p:sp>
            <p:nvSpPr>
              <p:cNvPr id="558" name=""/>
              <p:cNvSpPr/>
              <p:nvPr/>
            </p:nvSpPr>
            <p:spPr>
              <a:xfrm>
                <a:off x="1116000" y="3143160"/>
                <a:ext cx="6891480" cy="308628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40160" y="3143160"/>
                <a:ext cx="4042800" cy="243936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emény hatósági ellenőrzé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ivil és állampolgári 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watchdo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z ügyészek és a bírák képzé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Elrettentő erejű szankció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yilvánossá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561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563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566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1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4" name=""/>
          <p:cNvGrpSpPr/>
          <p:nvPr/>
        </p:nvGrpSpPr>
        <p:grpSpPr>
          <a:xfrm>
            <a:off x="633240" y="1360440"/>
            <a:ext cx="4181760" cy="365040"/>
            <a:chOff x="633240" y="1360440"/>
            <a:chExt cx="4181760" cy="365040"/>
          </a:xfrm>
        </p:grpSpPr>
        <p:sp>
          <p:nvSpPr>
            <p:cNvPr id="575" name=""/>
            <p:cNvSpPr/>
            <p:nvPr/>
          </p:nvSpPr>
          <p:spPr>
            <a:xfrm>
              <a:off x="633240" y="1360440"/>
              <a:ext cx="418176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633240" y="1360440"/>
              <a:ext cx="4181760" cy="365040"/>
              <a:chOff x="633240" y="1360440"/>
              <a:chExt cx="4181760" cy="365040"/>
            </a:xfrm>
          </p:grpSpPr>
          <p:sp>
            <p:nvSpPr>
              <p:cNvPr id="577" name=""/>
              <p:cNvSpPr/>
              <p:nvPr/>
            </p:nvSpPr>
            <p:spPr>
              <a:xfrm>
                <a:off x="633240" y="1360440"/>
                <a:ext cx="4181760" cy="3650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5440" y="1362240"/>
                <a:ext cx="371700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Termelés, kereskedele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230040" y="1955880"/>
            <a:ext cx="6723720" cy="5213520"/>
            <a:chOff x="230040" y="1955880"/>
            <a:chExt cx="6723720" cy="5213520"/>
          </a:xfrm>
        </p:grpSpPr>
        <p:sp>
          <p:nvSpPr>
            <p:cNvPr id="580" name=""/>
            <p:cNvSpPr/>
            <p:nvPr/>
          </p:nvSpPr>
          <p:spPr>
            <a:xfrm>
              <a:off x="463680" y="1955880"/>
              <a:ext cx="6253200" cy="51512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230040" y="1957320"/>
              <a:ext cx="6723720" cy="5212080"/>
              <a:chOff x="230040" y="1957320"/>
              <a:chExt cx="6723720" cy="5212080"/>
            </a:xfrm>
          </p:grpSpPr>
          <p:sp>
            <p:nvSpPr>
              <p:cNvPr id="582" name=""/>
              <p:cNvSpPr/>
              <p:nvPr/>
            </p:nvSpPr>
            <p:spPr>
              <a:xfrm>
                <a:off x="465120" y="1957320"/>
                <a:ext cx="6253200" cy="515160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30040" y="1957320"/>
                <a:ext cx="6723720" cy="521208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 fogyasztói szükségletek újragondol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Tartós termékek gyár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Újrahasznál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isztább termelé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z életciklus-szemlélet alkalma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Környezettudatos terméktervezés (öko-design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B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KI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veszélyes nyersanyagok kivál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Kapcsolatok a fogyasztóv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Garanciá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Környezeti termék-nyilatkozatok (deklarációk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Önkéntes megállapodások lakossági csoportokk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84" name=""/>
          <p:cNvGraphicFramePr/>
          <p:nvPr/>
        </p:nvGraphicFramePr>
        <p:xfrm>
          <a:off x="7288200" y="2017800"/>
          <a:ext cx="2292480" cy="259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7288200" y="4875120"/>
          <a:ext cx="2284560" cy="2247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587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589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592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5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00" name=""/>
          <p:cNvGrpSpPr/>
          <p:nvPr/>
        </p:nvGrpSpPr>
        <p:grpSpPr>
          <a:xfrm>
            <a:off x="755640" y="1506600"/>
            <a:ext cx="4403880" cy="366480"/>
            <a:chOff x="755640" y="1506600"/>
            <a:chExt cx="4403880" cy="366480"/>
          </a:xfrm>
        </p:grpSpPr>
        <p:sp>
          <p:nvSpPr>
            <p:cNvPr id="601" name=""/>
            <p:cNvSpPr/>
            <p:nvPr/>
          </p:nvSpPr>
          <p:spPr>
            <a:xfrm>
              <a:off x="755640" y="1506600"/>
              <a:ext cx="440388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755640" y="1508040"/>
              <a:ext cx="4403880" cy="365040"/>
              <a:chOff x="755640" y="1508040"/>
              <a:chExt cx="4403880" cy="365040"/>
            </a:xfrm>
          </p:grpSpPr>
          <p:sp>
            <p:nvSpPr>
              <p:cNvPr id="603" name=""/>
              <p:cNvSpPr/>
              <p:nvPr/>
            </p:nvSpPr>
            <p:spPr>
              <a:xfrm>
                <a:off x="755640" y="1508040"/>
                <a:ext cx="4403880" cy="3650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87240" y="1508040"/>
                <a:ext cx="94032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b84747"/>
                    </a:solidFill>
                    <a:latin typeface="Verdana"/>
                  </a:rPr>
                  <a:t>Méd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762120" y="1730520"/>
            <a:ext cx="8300880" cy="5552640"/>
            <a:chOff x="762120" y="1730520"/>
            <a:chExt cx="8300880" cy="5552640"/>
          </a:xfrm>
        </p:grpSpPr>
        <p:sp>
          <p:nvSpPr>
            <p:cNvPr id="606" name=""/>
            <p:cNvSpPr/>
            <p:nvPr/>
          </p:nvSpPr>
          <p:spPr>
            <a:xfrm>
              <a:off x="762120" y="1730520"/>
              <a:ext cx="8299440" cy="525276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763560" y="1731960"/>
              <a:ext cx="8299440" cy="5551200"/>
              <a:chOff x="763560" y="1731960"/>
              <a:chExt cx="8299440" cy="5551200"/>
            </a:xfrm>
          </p:grpSpPr>
          <p:sp>
            <p:nvSpPr>
              <p:cNvPr id="608" name=""/>
              <p:cNvSpPr/>
              <p:nvPr/>
            </p:nvSpPr>
            <p:spPr>
              <a:xfrm>
                <a:off x="763560" y="1731960"/>
                <a:ext cx="8299440" cy="525312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15800" y="1731960"/>
                <a:ext cx="7194600" cy="555120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1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Verdana"/>
                  </a:rPr>
                  <a:t>Önkorlátozás a reklámok stílusát és módszereit tekint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Reklámetikai kódexek kidolgo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gyermekreklámok mellőzé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hedonista életvezetési minták visszautasí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hiteltelen zöld reklámozás szankcionál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direkt mail korláto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reklámújságok korláto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Társadalmi Célú Reklám (TCR) újraszabályo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TCR-kampányok finanszírozás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611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613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616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20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6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24" name=""/>
          <p:cNvGrpSpPr/>
          <p:nvPr/>
        </p:nvGrpSpPr>
        <p:grpSpPr>
          <a:xfrm>
            <a:off x="492120" y="1793880"/>
            <a:ext cx="5200560" cy="366840"/>
            <a:chOff x="492120" y="1793880"/>
            <a:chExt cx="5200560" cy="366840"/>
          </a:xfrm>
        </p:grpSpPr>
        <p:sp>
          <p:nvSpPr>
            <p:cNvPr id="625" name=""/>
            <p:cNvSpPr/>
            <p:nvPr/>
          </p:nvSpPr>
          <p:spPr>
            <a:xfrm>
              <a:off x="492120" y="1793880"/>
              <a:ext cx="520056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92120" y="1793880"/>
              <a:ext cx="5200560" cy="366840"/>
              <a:chOff x="492120" y="1793880"/>
              <a:chExt cx="5200560" cy="366840"/>
            </a:xfrm>
          </p:grpSpPr>
          <p:sp>
            <p:nvSpPr>
              <p:cNvPr id="627" name=""/>
              <p:cNvSpPr/>
              <p:nvPr/>
            </p:nvSpPr>
            <p:spPr>
              <a:xfrm>
                <a:off x="492120" y="1793880"/>
                <a:ext cx="520056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81920" y="1793880"/>
                <a:ext cx="462384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Lemondás, tudatos fogyasztá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568440" y="2409840"/>
            <a:ext cx="5754600" cy="4690800"/>
            <a:chOff x="568440" y="2409840"/>
            <a:chExt cx="5754600" cy="4690800"/>
          </a:xfrm>
        </p:grpSpPr>
        <p:sp>
          <p:nvSpPr>
            <p:cNvPr id="630" name=""/>
            <p:cNvSpPr/>
            <p:nvPr/>
          </p:nvSpPr>
          <p:spPr>
            <a:xfrm>
              <a:off x="568440" y="2409840"/>
              <a:ext cx="5753160" cy="43830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69880" y="2409840"/>
              <a:ext cx="5753160" cy="4690800"/>
              <a:chOff x="569880" y="2409840"/>
              <a:chExt cx="5753160" cy="4690800"/>
            </a:xfrm>
          </p:grpSpPr>
          <p:sp>
            <p:nvSpPr>
              <p:cNvPr id="632" name=""/>
              <p:cNvSpPr/>
              <p:nvPr/>
            </p:nvSpPr>
            <p:spPr>
              <a:xfrm>
                <a:off x="569880" y="2409840"/>
                <a:ext cx="5753160" cy="4383000"/>
              </a:xfrm>
              <a:prstGeom prst="roundRect">
                <a:avLst>
                  <a:gd name="adj" fmla="val 3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8240" y="2409840"/>
                <a:ext cx="5534640" cy="4690800"/>
              </a:xfrm>
              <a:prstGeom prst="roundRect">
                <a:avLst>
                  <a:gd name="adj" fmla="val 3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200" spc="-1" strike="noStrike">
                    <a:solidFill>
                      <a:srgbClr val="000000"/>
                    </a:solidFill>
                    <a:latin typeface="Verdana"/>
                  </a:rPr>
                  <a:t>Hadüzenet a hedonizmusnak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52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Verdana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Önmérséklet: nassok, élvezeti cikkek elkerülé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gyorséttermek és plázák kerülé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Reklám-immuni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Ellenállni az újdonságok kísértéséne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Újrahasznál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Kreatív pihené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Lemondás a luxusró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lternatív ünnepe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 silány minőség kerülé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1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6099120" y="1738440"/>
          <a:ext cx="3589560" cy="514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66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68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2166840" y="3189240"/>
            <a:ext cx="7302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Úgyis termelődik,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legalább hasznosítsuk új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22160" y="400356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65440" y="4941720"/>
            <a:ext cx="2774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a hulladékhasznosít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10076040" cy="1862280"/>
            <a:chOff x="0" y="0"/>
            <a:chExt cx="10076040" cy="1862280"/>
          </a:xfrm>
        </p:grpSpPr>
        <p:sp>
          <p:nvSpPr>
            <p:cNvPr id="636" name=""/>
            <p:cNvSpPr/>
            <p:nvPr/>
          </p:nvSpPr>
          <p:spPr>
            <a:xfrm>
              <a:off x="0" y="149400"/>
              <a:ext cx="1007604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079880" y="184320"/>
              <a:ext cx="3863880" cy="622440"/>
              <a:chOff x="4079880" y="184320"/>
              <a:chExt cx="3863880" cy="622440"/>
            </a:xfrm>
          </p:grpSpPr>
          <p:sp>
            <p:nvSpPr>
              <p:cNvPr id="638" name=""/>
              <p:cNvSpPr/>
              <p:nvPr/>
            </p:nvSpPr>
            <p:spPr>
              <a:xfrm>
                <a:off x="4079880" y="184320"/>
                <a:ext cx="3833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110120" y="550800"/>
                <a:ext cx="383364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149000" y="938160"/>
              <a:ext cx="3042000" cy="156600"/>
              <a:chOff x="4149000" y="938160"/>
              <a:chExt cx="3042000" cy="156600"/>
            </a:xfrm>
          </p:grpSpPr>
          <p:sp>
            <p:nvSpPr>
              <p:cNvPr id="641" name=""/>
              <p:cNvSpPr/>
              <p:nvPr/>
            </p:nvSpPr>
            <p:spPr>
              <a:xfrm>
                <a:off x="4149720" y="938160"/>
                <a:ext cx="3040200" cy="15552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4149000" y="938160"/>
                <a:ext cx="3042000" cy="156600"/>
                <a:chOff x="4149000" y="938160"/>
                <a:chExt cx="3042000" cy="1566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149720" y="938160"/>
                  <a:ext cx="3040200" cy="15552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149000" y="938160"/>
                  <a:ext cx="3042000" cy="156600"/>
                </a:xfrm>
                <a:prstGeom prst="roundRect">
                  <a:avLst>
                    <a:gd name="adj" fmla="val 101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</a:rPr>
                    <a:t>PHARE ACCESS 2002 No.: 5748102-0204-00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45" name="" descr=""/>
            <p:cNvPicPr/>
            <p:nvPr/>
          </p:nvPicPr>
          <p:blipFill>
            <a:blip r:embed="rId1"/>
            <a:stretch/>
          </p:blipFill>
          <p:spPr>
            <a:xfrm>
              <a:off x="8209080" y="0"/>
              <a:ext cx="186696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6" name=""/>
            <p:cNvGrpSpPr/>
            <p:nvPr/>
          </p:nvGrpSpPr>
          <p:grpSpPr>
            <a:xfrm>
              <a:off x="3413160" y="252360"/>
              <a:ext cx="539640" cy="812880"/>
              <a:chOff x="3413160" y="252360"/>
              <a:chExt cx="539640" cy="812880"/>
            </a:xfrm>
          </p:grpSpPr>
          <p:pic>
            <p:nvPicPr>
              <p:cNvPr id="6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316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3040"/>
                <a:ext cx="53496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9" name=""/>
          <p:cNvGrpSpPr/>
          <p:nvPr/>
        </p:nvGrpSpPr>
        <p:grpSpPr>
          <a:xfrm>
            <a:off x="741240" y="1793880"/>
            <a:ext cx="3705480" cy="366840"/>
            <a:chOff x="741240" y="1793880"/>
            <a:chExt cx="3705480" cy="366840"/>
          </a:xfrm>
        </p:grpSpPr>
        <p:sp>
          <p:nvSpPr>
            <p:cNvPr id="650" name=""/>
            <p:cNvSpPr/>
            <p:nvPr/>
          </p:nvSpPr>
          <p:spPr>
            <a:xfrm>
              <a:off x="741240" y="1793880"/>
              <a:ext cx="370548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41240" y="1793880"/>
              <a:ext cx="3705480" cy="366840"/>
              <a:chOff x="741240" y="1793880"/>
              <a:chExt cx="3705480" cy="366840"/>
            </a:xfrm>
          </p:grpSpPr>
          <p:sp>
            <p:nvSpPr>
              <p:cNvPr id="652" name=""/>
              <p:cNvSpPr/>
              <p:nvPr/>
            </p:nvSpPr>
            <p:spPr>
              <a:xfrm>
                <a:off x="741240" y="1793880"/>
                <a:ext cx="370548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38880" y="1793880"/>
                <a:ext cx="3310200" cy="3056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800000"/>
                    </a:solidFill>
                    <a:latin typeface="Verdana"/>
                  </a:rPr>
                  <a:t>Civilek: példamutatá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568800" y="2584440"/>
            <a:ext cx="5544000" cy="2400480"/>
            <a:chOff x="568800" y="2584440"/>
            <a:chExt cx="5544000" cy="2400480"/>
          </a:xfrm>
        </p:grpSpPr>
        <p:sp>
          <p:nvSpPr>
            <p:cNvPr id="655" name=""/>
            <p:cNvSpPr/>
            <p:nvPr/>
          </p:nvSpPr>
          <p:spPr>
            <a:xfrm>
              <a:off x="803160" y="2584440"/>
              <a:ext cx="5075280" cy="240048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568800" y="2584440"/>
              <a:ext cx="5544000" cy="2400480"/>
              <a:chOff x="568800" y="2584440"/>
              <a:chExt cx="5544000" cy="2400480"/>
            </a:xfrm>
          </p:grpSpPr>
          <p:sp>
            <p:nvSpPr>
              <p:cNvPr id="657" name=""/>
              <p:cNvSpPr/>
              <p:nvPr/>
            </p:nvSpPr>
            <p:spPr>
              <a:xfrm>
                <a:off x="803160" y="2584440"/>
                <a:ext cx="5075280" cy="2400480"/>
              </a:xfrm>
              <a:prstGeom prst="roundRect">
                <a:avLst>
                  <a:gd name="adj" fmla="val 6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8800" y="2584440"/>
                <a:ext cx="5544000" cy="2264040"/>
              </a:xfrm>
              <a:prstGeom prst="roundRect">
                <a:avLst>
                  <a:gd name="adj" fmla="val 6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95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Alternatív jövőképek kidolgoz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Önkéntes hozzájárulás, önkéntes mun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Fogyasztói alternatívák felmuta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43000"/>
                  </a:lnSpc>
                  <a:buClr>
                    <a:srgbClr val="000000"/>
                  </a:buClr>
                  <a:buSzPct val="45000"/>
                  <a:buFont typeface="Wingdings" charset="2"/>
                  <a:buChar char=""/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Életvezetési stílusok bemutatá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660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662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5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6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9" name=""/>
          <p:cNvSpPr/>
          <p:nvPr/>
        </p:nvSpPr>
        <p:spPr>
          <a:xfrm>
            <a:off x="925200" y="1606680"/>
            <a:ext cx="2083320" cy="256680"/>
          </a:xfrm>
          <a:prstGeom prst="roundRect">
            <a:avLst>
              <a:gd name="adj" fmla="val 5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13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Verdana"/>
              </a:rPr>
              <a:t>Hulladék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4720" y="2379600"/>
            <a:ext cx="9065880" cy="445644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z ártalmatlanítás centrikus hulladékgazdálkodás átállítá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egelőzés központúv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Decentralizá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nagy regionális hulladékkezelő művek helyett kistérségi komplex program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gyedi és társasházi komposztá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zelektálás, hasznosít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háztartásokig menő gyűjtési rendszerek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szelektálás és feldolgozás többletköltségeinek kompenzál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 inert hulladékok elkülönített kezelése és feldolgoz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Veszélyes hullad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ötelező felelősségbiztosítás a veszélyeshulladékos cégek eseté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0" y="0"/>
            <a:ext cx="10072800" cy="1859040"/>
            <a:chOff x="0" y="0"/>
            <a:chExt cx="10072800" cy="1859040"/>
          </a:xfrm>
        </p:grpSpPr>
        <p:sp>
          <p:nvSpPr>
            <p:cNvPr id="672" name=""/>
            <p:cNvSpPr/>
            <p:nvPr/>
          </p:nvSpPr>
          <p:spPr>
            <a:xfrm>
              <a:off x="0" y="149400"/>
              <a:ext cx="1007280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079880" y="184320"/>
              <a:ext cx="3860640" cy="619200"/>
              <a:chOff x="4079880" y="184320"/>
              <a:chExt cx="3860640" cy="619200"/>
            </a:xfrm>
          </p:grpSpPr>
          <p:sp>
            <p:nvSpPr>
              <p:cNvPr id="674" name=""/>
              <p:cNvSpPr/>
              <p:nvPr/>
            </p:nvSpPr>
            <p:spPr>
              <a:xfrm>
                <a:off x="4079880" y="184320"/>
                <a:ext cx="3830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110120" y="547560"/>
                <a:ext cx="38304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143240" y="936720"/>
              <a:ext cx="3043440" cy="158040"/>
              <a:chOff x="4143240" y="936720"/>
              <a:chExt cx="3043440" cy="158040"/>
            </a:xfrm>
          </p:grpSpPr>
          <p:sp>
            <p:nvSpPr>
              <p:cNvPr id="677" name=""/>
              <p:cNvSpPr/>
              <p:nvPr/>
            </p:nvSpPr>
            <p:spPr>
              <a:xfrm>
                <a:off x="4149720" y="936720"/>
                <a:ext cx="3036960" cy="152280"/>
              </a:xfrm>
              <a:prstGeom prst="roundRect">
                <a:avLst>
                  <a:gd name="adj" fmla="val 104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4143240" y="936720"/>
                <a:ext cx="3042000" cy="158040"/>
                <a:chOff x="4143240" y="936720"/>
                <a:chExt cx="3042000" cy="1580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4149720" y="936720"/>
                  <a:ext cx="3033720" cy="149040"/>
                </a:xfrm>
                <a:prstGeom prst="roundRect">
                  <a:avLst>
                    <a:gd name="adj" fmla="val 10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0" name=""/>
                <p:cNvGrpSpPr/>
                <p:nvPr/>
              </p:nvGrpSpPr>
              <p:grpSpPr>
                <a:xfrm>
                  <a:off x="4143240" y="936720"/>
                  <a:ext cx="3042000" cy="158040"/>
                  <a:chOff x="4143240" y="936720"/>
                  <a:chExt cx="3042000" cy="15804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4149720" y="936720"/>
                    <a:ext cx="3032280" cy="147600"/>
                  </a:xfrm>
                  <a:prstGeom prst="roundRect">
                    <a:avLst>
                      <a:gd name="adj" fmla="val 1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143240" y="938160"/>
                    <a:ext cx="3042000" cy="156600"/>
                    <a:chOff x="4143240" y="938160"/>
                    <a:chExt cx="3042000" cy="15660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4149720" y="938160"/>
                      <a:ext cx="3030480" cy="147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4143240" y="938160"/>
                      <a:ext cx="3042000" cy="156600"/>
                    </a:xfrm>
                    <a:prstGeom prst="roundRect">
                      <a:avLst>
                        <a:gd name="adj" fmla="val 1083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E ACCESS 2002 No.: 5748102-0204-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685" name="" descr=""/>
            <p:cNvPicPr/>
            <p:nvPr/>
          </p:nvPicPr>
          <p:blipFill>
            <a:blip r:embed="rId1"/>
            <a:stretch/>
          </p:blipFill>
          <p:spPr>
            <a:xfrm>
              <a:off x="8205840" y="0"/>
              <a:ext cx="1866960" cy="185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"/>
            <p:cNvGrpSpPr/>
            <p:nvPr/>
          </p:nvGrpSpPr>
          <p:grpSpPr>
            <a:xfrm>
              <a:off x="3413160" y="252360"/>
              <a:ext cx="536400" cy="809640"/>
              <a:chOff x="3413160" y="252360"/>
              <a:chExt cx="536400" cy="809640"/>
            </a:xfrm>
          </p:grpSpPr>
          <p:pic>
            <p:nvPicPr>
              <p:cNvPr id="6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2992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39800"/>
                <a:ext cx="53172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9" name=""/>
          <p:cNvSpPr/>
          <p:nvPr/>
        </p:nvSpPr>
        <p:spPr>
          <a:xfrm>
            <a:off x="720720" y="1538280"/>
            <a:ext cx="794700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Túl nagy a lakossági fogyaszt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Túl kevés a megtakarít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kevesebb csomagolás, kevesebb vásárlá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kevesebb luxus, kevesebb gagy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Magas a munkanélküliek arány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Újrahasználat, újratöltés, feldolgozás, hasz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Kevés a beruház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                                 </a:t>
            </a: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Visszaváltó gépsorok, töltőüzemek, tiszta technológi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Alacsony a versenyképessé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em a munkaerőt és az erőforrásokat kell kihaszná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Alacsony a hasznosítási arán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Kevesebb hulladékból kevesebbet kell hasznosít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Sok a szerves hulladé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Több kellene, de helyben kéne hagy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80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82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"/>
          <p:cNvSpPr/>
          <p:nvPr/>
        </p:nvSpPr>
        <p:spPr>
          <a:xfrm>
            <a:off x="2166840" y="3189240"/>
            <a:ext cx="7302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A hasznosítás mindent mego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93000" y="390672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8720" y="4830840"/>
            <a:ext cx="3833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egy másik hulladékhasznosít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42040" y="4859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95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97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" name=""/>
          <p:cNvSpPr/>
          <p:nvPr/>
        </p:nvSpPr>
        <p:spPr>
          <a:xfrm>
            <a:off x="2166840" y="3189240"/>
            <a:ext cx="73026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Szép dolog a megelőzés,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de nekünk minden héten el kell hozni a szemete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8920" y="438948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040" y="5535720"/>
            <a:ext cx="1774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a szolgáltat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110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" name=""/>
          <p:cNvSpPr/>
          <p:nvPr/>
        </p:nvSpPr>
        <p:spPr>
          <a:xfrm>
            <a:off x="2166840" y="3189240"/>
            <a:ext cx="73026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Csak akkor lesz kevesebb a szemét, ha kiirtjuk az emberiség felé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85160" y="452916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2680" y="5465880"/>
            <a:ext cx="333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em árulom el, ki mond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11840" y="545292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126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128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" name=""/>
          <p:cNvSpPr/>
          <p:nvPr/>
        </p:nvSpPr>
        <p:spPr>
          <a:xfrm>
            <a:off x="2166840" y="3189240"/>
            <a:ext cx="7302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Ha teljesítményarányos lesz a szemétdíj, akkor az emberek az erdőbe fogják hordani a szemet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0880" y="519120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6040" y="6226200"/>
            <a:ext cx="276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ismét egy szolgáltat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11840" y="545292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" y="470700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143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" name=""/>
          <p:cNvSpPr/>
          <p:nvPr/>
        </p:nvSpPr>
        <p:spPr>
          <a:xfrm>
            <a:off x="2166840" y="3189240"/>
            <a:ext cx="73026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Ha csak annyit el tudnánk érni, hogy ne legyenek illegális lerakók.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88600" y="448632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5591160"/>
            <a:ext cx="2026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egy pedagóg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11840" y="545292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" y="470700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10078920" cy="1865160"/>
            <a:chOff x="0" y="0"/>
            <a:chExt cx="10078920" cy="1865160"/>
          </a:xfrm>
        </p:grpSpPr>
        <p:sp>
          <p:nvSpPr>
            <p:cNvPr id="160" name=""/>
            <p:cNvSpPr/>
            <p:nvPr/>
          </p:nvSpPr>
          <p:spPr>
            <a:xfrm>
              <a:off x="0" y="149400"/>
              <a:ext cx="10078920" cy="1089000"/>
            </a:xfrm>
            <a:prstGeom prst="roundRect">
              <a:avLst>
                <a:gd name="adj" fmla="val 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079880" y="184320"/>
              <a:ext cx="3867120" cy="624240"/>
              <a:chOff x="4079880" y="184320"/>
              <a:chExt cx="3867120" cy="624240"/>
            </a:xfrm>
          </p:grpSpPr>
          <p:sp>
            <p:nvSpPr>
              <p:cNvPr id="162" name=""/>
              <p:cNvSpPr/>
              <p:nvPr/>
            </p:nvSpPr>
            <p:spPr>
              <a:xfrm>
                <a:off x="4079880" y="184320"/>
                <a:ext cx="383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398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8000"/>
                    </a:solidFill>
                    <a:latin typeface="Verdana"/>
                  </a:rPr>
                  <a:t>Az a kincs, ami nin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10120" y="552600"/>
                <a:ext cx="38368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013"/>
                  </a:lnSpc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Verdana"/>
                  </a:rPr>
                  <a:t>No Waste Is Good Wa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149720" y="938160"/>
              <a:ext cx="3042000" cy="156600"/>
            </a:xfrm>
            <a:prstGeom prst="roundRect">
              <a:avLst>
                <a:gd name="adj" fmla="val 10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HARE ACCESS 2002 No.: 5748102-0204-000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8211960" y="0"/>
              <a:ext cx="186696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3413160" y="252360"/>
              <a:ext cx="544320" cy="814320"/>
              <a:chOff x="3413160" y="252360"/>
              <a:chExt cx="544320" cy="81432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52360"/>
                <a:ext cx="53784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3160" y="744480"/>
                <a:ext cx="539640" cy="32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9" name=""/>
          <p:cNvSpPr/>
          <p:nvPr/>
        </p:nvSpPr>
        <p:spPr>
          <a:xfrm>
            <a:off x="2166840" y="3189240"/>
            <a:ext cx="73026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Köszönöm, hogy itt lehettem, a véleményem nem változott: égetőket kell építe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59160" y="276084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20160" y="4626000"/>
            <a:ext cx="610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dcff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68600" y="5591160"/>
            <a:ext cx="2570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egy alpolgárme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3120" y="6902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1840" y="545292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" y="470700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0720" y="665316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