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484B-4363-40C3-96B7-7DDAFF003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DE21-63CB-48E0-8B75-6F8EE41E6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5EFB-5717-4A7D-9CA3-DA51EA2E0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FEE0-CDF5-408E-896C-07434801B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7737-9DFF-44C5-A470-EF2D63E3B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C47D-F166-4C97-87AF-A089A89A6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0C9C-99F7-42E7-8668-4C7268ABA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80DE-93AB-49F0-9149-726F057D4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18FE-2020-4003-A865-F79664492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63E1-A44F-4480-8293-6ED826E4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B907-D991-4BB1-82F1-688DF256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2885-72F8-49F8-BAEF-10EF6D7A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2A6A4-E14C-4B37-BC8E-9967BEDCD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Van-e hulladékkeletkezés megelőzés a Nemzeti Fejlesztési Tervb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8800" spc="-1" strike="noStrike">
                <a:solidFill>
                  <a:srgbClr val="000000"/>
                </a:solidFill>
                <a:latin typeface="Arial"/>
              </a:rPr>
              <a:t>Ninc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Következtet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Ha kevesebb és kevésbé ártalmas  hulladékot szeretnénk, akkor a termelés és fogyasztás szerkezetén, az intézményrendszeren, s a társadalom értékrendjén kell változtatnu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Probléma az intézményrendszerr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hulladék tulajdonosa a hulladék „termelője”, azaz a végső fogyaszt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 változtatás irány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hulladék a gyártó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z ő felelőssége, hogy elkerülje a hulladék keletkezését, vagy olyan hulladékot hozzon létre, amellyel tud mit kezde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zért, ő fogja megváltoztatni a termelési szerkezetet, hogy elkerülje a kezelhetetlen hulladék keletkezésé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 változtatás irány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Integrált termékpolitika a termék teljes életciklusára vonatkozó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Termékek tervezésének szubjektív feltétele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asznossá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asználhatósá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éltányossá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evelő hatás – értékek megerősít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sztétikai érté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gészségre való hatás megítél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Ár-érték ará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Életciklus: előállít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iből? (nyersanya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ivel? (energ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ivel? (eszkö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d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öltsé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örnyezeti kibocsá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ermelési hulladé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özvetlen hatás egészség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ásodlagos tevékenységek hatás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egatív externáli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Életciklus - használ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dő tart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özvetlen hatás egészség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arbantartás költségei és környezeti terh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Üzemeltetés anyag és energia igény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asználat negatív externáliá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Életciklus - hulladé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Újra használ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nyagában való újrahasznosít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asznosít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Leboml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em leboml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özvetlen hatás környeze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Gazdasági szempont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lőállítási költsé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nyag és energia költsé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unkadí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d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ínál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eres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gazdaságossá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Szociális szempont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elyi erőforrásból helyi hasz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Jövedelem – megélhe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ársadalmi tehervisel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asznok eloszt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materiális érté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Foglalkoztatás - munkah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Miért nincs helye a hulladék megelőzésnek a NFT-b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ert a program a gazdasági növekedésnek ad elsőbbsé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növekedés hajtóereje a problémagyárt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ükség van újabb problémákra, hogy pénzt keressünk a problémamegoldáss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problémamegoldásra szakosodott intézmények érdekei konzerválják a problémá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növekedés nem azonosítható a fejlődés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Új termékpolitika kidolgozá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nergia- és nyersanyag-felhasználás minimálisra csökken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egatív külső költségek minimálisra csökken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egújul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Újrahasznosíthat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osszú élettartamú, jó minőség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arbantartás minimálisra csökkenté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evés tőkét igényl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ok hozzáadott érté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elyi ismereteken és erőforrásokon alap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egfelelő időkihasznál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A termelés és fogyasztás szerkezetének megváltoztatá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Iránya: az anyag és energia-intenzív termeléstől és fogyasztástól az anyag és energiaszegény termelés és fogyasztás fe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Intézményes eszköze: új adópolitik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dópolitika kidolgozá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adópolitika célja a szabályozás, nem a puszta pénzbeszed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állam azért szedi a pénzt, mert a növekvő problémák kiadásokkal járn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Olyan adórendszerre van szükség, amely leépül, ha elérte a szabályozás a céljá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Olyan adórendszer kell, amely nem konzerválja a kivetés tárgyá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Legyen érzékeny a társadalmi különbségek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adó az erőforrás használat mértékén alapulj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Új adópolitika kidolgozá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adót a primer nyersanyagokra kell kivetni (energia adó is egyb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nyersanyagokra kivetett adó megjelenik minden termék árában, a magas anyag és energiafelhasználással járó termékek és szolgáltatások drágák leszn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piaci mechanizmusok ösztönözni fogják az alacsony anyag és energiaintenzitású termékek és szolgáltatások kialakulását, mert a kereslet is erre irány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Új adópolitika kidolgozá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új, fogyasztási adó nem járhat adóteher növekedéssel, ugyanakkor jelentős adó kivetésre van szükség, hogy a szabályozás elérje céljá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eg kell szüntetni a személyi-jövedelem adót, s vele arányos nagyságú adót kell kivet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adót az alacsony anyag és energiaintenzitású gazdaságszerkezet kialakítására kell költeni (tudás, innováció, intézményrendszer, ösztönzők, szemlélet, stb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Előnyö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ociálisan érzéke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anyag és energiaintenzitás csökkenésével csökken a kivetett ad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termelés és fogyasztás szerkezetét együtt változtat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örnyezetbarát értékekre ösztönöz, megerősíti a helyes termelői, fogyasztói viselkedé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bölcs tudást ösztönz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Csak az anyag és energia intenzív fogyasztást gátolja, több tudás és kultúra fogyasztást tesz lehetőv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ol lenne a helye a hulladékkeletkezés megelőzésének a NFT-ben</a:t>
            </a: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z NFT-nek tudatosan, olyan gazdasági és fogyasztási szerkezetet kellene tervezni, ösztönözni, intézményesen alátámasztani, amely követi a minimális anyag és energiafelhasználás elvét, ezáltal megvalósítja a hulladékkeletkezés megelőzésé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+ 1 lényeges problé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Gazdasági szabályozókkal a toxikus hulladékok köre nem szabályozhat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toxikus hulladékok keletkezésének megakadályozása tiktó jogszabályokkal lehetsé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megengedő szabályozás, a szennyezés megfizetése, nem oldja meg az életre ható negatív következménye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toxikus, természetidegen anyagok tiltása, fontos feltétele a keletkező hulladékokkal való bánásmódn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Köszönöm figyelmüke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echno-optimista megközelít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z emberiség történelme során képes volt megbirkózni a problémákkal, ezután is így les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lőre kell menekül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kihívások növelik az ember technikai ismeret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Nem baj, hogy hulladékok keletkeznek, nagyszerű mérnökeink megtalálják rá a megfelelő válasz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Miért nincs helye a hulladék megelőzésnek a NFT-b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hulladék probléma nem oldható meg a hulladék kezelés módszerei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hulladékgazdálkodás feltételezi a hulladék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hulladékgazdálkodás jó üz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hulladékgazdálkodás konzerválja a hulladékkeletkezé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 hulladék és az NFT viszony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ivel a hulladékok keletkezésének megelőzése nem járulna hozzá a gazdasági növekedéshez, ezért az nem kívána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keletkező hulladékokkal való „gazdálkodás” a kívánatos: „ártalmatlanítás”, újrahasznosít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Mi a baj ezzel a megközelítéss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hulladékok anyagot és energiát testesítenek meg, az erőforrások viszont véges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hulladékok terhelik a működő életfenntartó folyamatokat, (toxicitás, olyan anyagáramok, amelyekkel a biogeokémiai ciklusok nem képesek megbirkózni), amelyek nem képesek megújítani a megújítható erőforrások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 fenntarthatóságnak megfelelő megközelíté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A környezetállapot ok-okozati összefüggése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701280" y="612360"/>
            <a:ext cx="7664400" cy="5775840"/>
            <a:chOff x="701280" y="612360"/>
            <a:chExt cx="7664400" cy="5775840"/>
          </a:xfrm>
        </p:grpSpPr>
        <p:sp>
          <p:nvSpPr>
            <p:cNvPr id="57" name=""/>
            <p:cNvSpPr/>
            <p:nvPr/>
          </p:nvSpPr>
          <p:spPr>
            <a:xfrm>
              <a:off x="3260160" y="629640"/>
              <a:ext cx="2559960" cy="1929240"/>
            </a:xfrm>
            <a:custGeom>
              <a:avLst/>
              <a:gdLst/>
              <a:ahLst/>
              <a:rect l="l" t="t" r="r" b="b"/>
              <a:pathLst>
                <a:path w="1619" h="1225">
                  <a:moveTo>
                    <a:pt x="0" y="1225"/>
                  </a:moveTo>
                  <a:lnTo>
                    <a:pt x="811" y="0"/>
                  </a:lnTo>
                  <a:lnTo>
                    <a:pt x="1619" y="1225"/>
                  </a:lnTo>
                  <a:lnTo>
                    <a:pt x="0" y="12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253680" y="612360"/>
              <a:ext cx="1294920" cy="1949760"/>
            </a:xfrm>
            <a:custGeom>
              <a:avLst/>
              <a:gdLst/>
              <a:ahLst/>
              <a:rect l="l" t="t" r="r" b="b"/>
              <a:pathLst>
                <a:path w="819" h="1238">
                  <a:moveTo>
                    <a:pt x="819" y="6"/>
                  </a:moveTo>
                  <a:lnTo>
                    <a:pt x="808" y="6"/>
                  </a:lnTo>
                  <a:lnTo>
                    <a:pt x="0" y="1232"/>
                  </a:lnTo>
                  <a:lnTo>
                    <a:pt x="10" y="1238"/>
                  </a:lnTo>
                  <a:lnTo>
                    <a:pt x="819" y="15"/>
                  </a:lnTo>
                  <a:lnTo>
                    <a:pt x="808" y="15"/>
                  </a:lnTo>
                  <a:lnTo>
                    <a:pt x="819" y="6"/>
                  </a:lnTo>
                  <a:lnTo>
                    <a:pt x="815" y="0"/>
                  </a:lnTo>
                  <a:lnTo>
                    <a:pt x="808" y="6"/>
                  </a:lnTo>
                  <a:lnTo>
                    <a:pt x="819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531320" y="621720"/>
              <a:ext cx="1306080" cy="1946520"/>
            </a:xfrm>
            <a:custGeom>
              <a:avLst/>
              <a:gdLst/>
              <a:ahLst/>
              <a:rect l="l" t="t" r="r" b="b"/>
              <a:pathLst>
                <a:path w="826" h="1236">
                  <a:moveTo>
                    <a:pt x="815" y="1236"/>
                  </a:moveTo>
                  <a:lnTo>
                    <a:pt x="820" y="1226"/>
                  </a:lnTo>
                  <a:lnTo>
                    <a:pt x="11" y="0"/>
                  </a:lnTo>
                  <a:lnTo>
                    <a:pt x="0" y="9"/>
                  </a:lnTo>
                  <a:lnTo>
                    <a:pt x="809" y="1232"/>
                  </a:lnTo>
                  <a:lnTo>
                    <a:pt x="815" y="1224"/>
                  </a:lnTo>
                  <a:lnTo>
                    <a:pt x="815" y="1236"/>
                  </a:lnTo>
                  <a:lnTo>
                    <a:pt x="826" y="1236"/>
                  </a:lnTo>
                  <a:lnTo>
                    <a:pt x="820" y="1226"/>
                  </a:lnTo>
                  <a:lnTo>
                    <a:pt x="815" y="12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243960" y="2549880"/>
              <a:ext cx="2575800" cy="18720"/>
            </a:xfrm>
            <a:custGeom>
              <a:avLst/>
              <a:gdLst/>
              <a:ahLst/>
              <a:rect l="l" t="t" r="r" b="b"/>
              <a:pathLst>
                <a:path w="1629" h="12">
                  <a:moveTo>
                    <a:pt x="6" y="2"/>
                  </a:moveTo>
                  <a:lnTo>
                    <a:pt x="10" y="12"/>
                  </a:lnTo>
                  <a:lnTo>
                    <a:pt x="1629" y="12"/>
                  </a:lnTo>
                  <a:lnTo>
                    <a:pt x="1629" y="0"/>
                  </a:lnTo>
                  <a:lnTo>
                    <a:pt x="10" y="0"/>
                  </a:lnTo>
                  <a:lnTo>
                    <a:pt x="16" y="8"/>
                  </a:lnTo>
                  <a:lnTo>
                    <a:pt x="6" y="2"/>
                  </a:lnTo>
                  <a:lnTo>
                    <a:pt x="0" y="12"/>
                  </a:lnTo>
                  <a:lnTo>
                    <a:pt x="10" y="1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260160" y="2559240"/>
              <a:ext cx="2559960" cy="1894680"/>
            </a:xfrm>
            <a:custGeom>
              <a:avLst/>
              <a:gdLst/>
              <a:ahLst/>
              <a:rect l="l" t="t" r="r" b="b"/>
              <a:pathLst>
                <a:path w="1619" h="1203">
                  <a:moveTo>
                    <a:pt x="0" y="0"/>
                  </a:moveTo>
                  <a:lnTo>
                    <a:pt x="811" y="1203"/>
                  </a:lnTo>
                  <a:lnTo>
                    <a:pt x="16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4c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253680" y="2552760"/>
              <a:ext cx="1294920" cy="1919880"/>
            </a:xfrm>
            <a:custGeom>
              <a:avLst/>
              <a:gdLst/>
              <a:ahLst/>
              <a:rect l="l" t="t" r="r" b="b"/>
              <a:pathLst>
                <a:path w="819" h="1219">
                  <a:moveTo>
                    <a:pt x="808" y="1205"/>
                  </a:moveTo>
                  <a:lnTo>
                    <a:pt x="819" y="1205"/>
                  </a:lnTo>
                  <a:lnTo>
                    <a:pt x="10" y="0"/>
                  </a:lnTo>
                  <a:lnTo>
                    <a:pt x="0" y="6"/>
                  </a:lnTo>
                  <a:lnTo>
                    <a:pt x="808" y="1211"/>
                  </a:lnTo>
                  <a:lnTo>
                    <a:pt x="819" y="1211"/>
                  </a:lnTo>
                  <a:lnTo>
                    <a:pt x="808" y="1211"/>
                  </a:lnTo>
                  <a:lnTo>
                    <a:pt x="815" y="1219"/>
                  </a:lnTo>
                  <a:lnTo>
                    <a:pt x="819" y="1211"/>
                  </a:lnTo>
                  <a:lnTo>
                    <a:pt x="808" y="120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531320" y="2549880"/>
              <a:ext cx="1306080" cy="1910520"/>
            </a:xfrm>
            <a:custGeom>
              <a:avLst/>
              <a:gdLst/>
              <a:ahLst/>
              <a:rect l="l" t="t" r="r" b="b"/>
              <a:pathLst>
                <a:path w="826" h="1213">
                  <a:moveTo>
                    <a:pt x="815" y="12"/>
                  </a:moveTo>
                  <a:lnTo>
                    <a:pt x="809" y="2"/>
                  </a:lnTo>
                  <a:lnTo>
                    <a:pt x="0" y="1207"/>
                  </a:lnTo>
                  <a:lnTo>
                    <a:pt x="11" y="1213"/>
                  </a:lnTo>
                  <a:lnTo>
                    <a:pt x="820" y="8"/>
                  </a:lnTo>
                  <a:lnTo>
                    <a:pt x="815" y="0"/>
                  </a:lnTo>
                  <a:lnTo>
                    <a:pt x="820" y="8"/>
                  </a:lnTo>
                  <a:lnTo>
                    <a:pt x="826" y="0"/>
                  </a:lnTo>
                  <a:lnTo>
                    <a:pt x="815" y="0"/>
                  </a:lnTo>
                  <a:lnTo>
                    <a:pt x="815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243960" y="2549880"/>
              <a:ext cx="2575800" cy="18720"/>
            </a:xfrm>
            <a:custGeom>
              <a:avLst/>
              <a:gdLst/>
              <a:ahLst/>
              <a:rect l="l" t="t" r="r" b="b"/>
              <a:pathLst>
                <a:path w="1629" h="12">
                  <a:moveTo>
                    <a:pt x="16" y="2"/>
                  </a:moveTo>
                  <a:lnTo>
                    <a:pt x="10" y="12"/>
                  </a:lnTo>
                  <a:lnTo>
                    <a:pt x="1629" y="12"/>
                  </a:lnTo>
                  <a:lnTo>
                    <a:pt x="1629" y="0"/>
                  </a:lnTo>
                  <a:lnTo>
                    <a:pt x="10" y="0"/>
                  </a:lnTo>
                  <a:lnTo>
                    <a:pt x="6" y="8"/>
                  </a:lnTo>
                  <a:lnTo>
                    <a:pt x="10" y="0"/>
                  </a:lnTo>
                  <a:lnTo>
                    <a:pt x="0" y="0"/>
                  </a:lnTo>
                  <a:lnTo>
                    <a:pt x="6" y="8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996560" y="2559240"/>
              <a:ext cx="2545560" cy="1894680"/>
            </a:xfrm>
            <a:custGeom>
              <a:avLst/>
              <a:gdLst/>
              <a:ahLst/>
              <a:rect l="l" t="t" r="r" b="b"/>
              <a:pathLst>
                <a:path w="1610" h="1203">
                  <a:moveTo>
                    <a:pt x="799" y="0"/>
                  </a:moveTo>
                  <a:lnTo>
                    <a:pt x="0" y="1203"/>
                  </a:lnTo>
                  <a:lnTo>
                    <a:pt x="1610" y="1203"/>
                  </a:lnTo>
                  <a:lnTo>
                    <a:pt x="799" y="0"/>
                  </a:lnTo>
                  <a:close/>
                </a:path>
              </a:pathLst>
            </a:custGeom>
            <a:solidFill>
              <a:srgbClr val="74c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980720" y="2552760"/>
              <a:ext cx="1288800" cy="1910520"/>
            </a:xfrm>
            <a:custGeom>
              <a:avLst/>
              <a:gdLst/>
              <a:ahLst/>
              <a:rect l="l" t="t" r="r" b="b"/>
              <a:pathLst>
                <a:path w="815" h="1213">
                  <a:moveTo>
                    <a:pt x="10" y="1201"/>
                  </a:moveTo>
                  <a:lnTo>
                    <a:pt x="16" y="1211"/>
                  </a:lnTo>
                  <a:lnTo>
                    <a:pt x="815" y="6"/>
                  </a:lnTo>
                  <a:lnTo>
                    <a:pt x="805" y="0"/>
                  </a:lnTo>
                  <a:lnTo>
                    <a:pt x="6" y="1205"/>
                  </a:lnTo>
                  <a:lnTo>
                    <a:pt x="10" y="1213"/>
                  </a:lnTo>
                  <a:lnTo>
                    <a:pt x="6" y="1205"/>
                  </a:lnTo>
                  <a:lnTo>
                    <a:pt x="0" y="1213"/>
                  </a:lnTo>
                  <a:lnTo>
                    <a:pt x="10" y="1213"/>
                  </a:lnTo>
                  <a:lnTo>
                    <a:pt x="10" y="120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996560" y="4444560"/>
              <a:ext cx="2564640" cy="18720"/>
            </a:xfrm>
            <a:custGeom>
              <a:avLst/>
              <a:gdLst/>
              <a:ahLst/>
              <a:rect l="l" t="t" r="r" b="b"/>
              <a:pathLst>
                <a:path w="1622" h="12">
                  <a:moveTo>
                    <a:pt x="1603" y="10"/>
                  </a:moveTo>
                  <a:lnTo>
                    <a:pt x="1610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0" y="12"/>
                  </a:lnTo>
                  <a:lnTo>
                    <a:pt x="1614" y="4"/>
                  </a:lnTo>
                  <a:lnTo>
                    <a:pt x="1610" y="12"/>
                  </a:lnTo>
                  <a:lnTo>
                    <a:pt x="1622" y="12"/>
                  </a:lnTo>
                  <a:lnTo>
                    <a:pt x="1614" y="4"/>
                  </a:lnTo>
                  <a:lnTo>
                    <a:pt x="1603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253680" y="2540160"/>
              <a:ext cx="1294920" cy="1919880"/>
            </a:xfrm>
            <a:custGeom>
              <a:avLst/>
              <a:gdLst/>
              <a:ahLst/>
              <a:rect l="l" t="t" r="r" b="b"/>
              <a:pathLst>
                <a:path w="819" h="1219">
                  <a:moveTo>
                    <a:pt x="10" y="14"/>
                  </a:moveTo>
                  <a:lnTo>
                    <a:pt x="0" y="14"/>
                  </a:lnTo>
                  <a:lnTo>
                    <a:pt x="808" y="1219"/>
                  </a:lnTo>
                  <a:lnTo>
                    <a:pt x="819" y="1213"/>
                  </a:lnTo>
                  <a:lnTo>
                    <a:pt x="10" y="8"/>
                  </a:lnTo>
                  <a:lnTo>
                    <a:pt x="0" y="8"/>
                  </a:lnTo>
                  <a:lnTo>
                    <a:pt x="10" y="8"/>
                  </a:lnTo>
                  <a:lnTo>
                    <a:pt x="4" y="0"/>
                  </a:lnTo>
                  <a:lnTo>
                    <a:pt x="0" y="8"/>
                  </a:lnTo>
                  <a:lnTo>
                    <a:pt x="10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42480" y="2559240"/>
              <a:ext cx="2537640" cy="1894680"/>
            </a:xfrm>
            <a:custGeom>
              <a:avLst/>
              <a:gdLst/>
              <a:ahLst/>
              <a:rect l="l" t="t" r="r" b="b"/>
              <a:pathLst>
                <a:path w="1605" h="1203">
                  <a:moveTo>
                    <a:pt x="808" y="0"/>
                  </a:moveTo>
                  <a:lnTo>
                    <a:pt x="1605" y="1203"/>
                  </a:lnTo>
                  <a:lnTo>
                    <a:pt x="0" y="1203"/>
                  </a:lnTo>
                  <a:lnTo>
                    <a:pt x="808" y="0"/>
                  </a:lnTo>
                  <a:close/>
                </a:path>
              </a:pathLst>
            </a:custGeom>
            <a:solidFill>
              <a:srgbClr val="74c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810400" y="2552760"/>
              <a:ext cx="1285560" cy="1910520"/>
            </a:xfrm>
            <a:custGeom>
              <a:avLst/>
              <a:gdLst/>
              <a:ahLst/>
              <a:rect l="l" t="t" r="r" b="b"/>
              <a:pathLst>
                <a:path w="813" h="1213">
                  <a:moveTo>
                    <a:pt x="803" y="1213"/>
                  </a:moveTo>
                  <a:lnTo>
                    <a:pt x="807" y="1205"/>
                  </a:lnTo>
                  <a:lnTo>
                    <a:pt x="11" y="0"/>
                  </a:lnTo>
                  <a:lnTo>
                    <a:pt x="0" y="6"/>
                  </a:lnTo>
                  <a:lnTo>
                    <a:pt x="797" y="1211"/>
                  </a:lnTo>
                  <a:lnTo>
                    <a:pt x="803" y="1201"/>
                  </a:lnTo>
                  <a:lnTo>
                    <a:pt x="803" y="1213"/>
                  </a:lnTo>
                  <a:lnTo>
                    <a:pt x="813" y="1213"/>
                  </a:lnTo>
                  <a:lnTo>
                    <a:pt x="807" y="1205"/>
                  </a:lnTo>
                  <a:lnTo>
                    <a:pt x="803" y="12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521960" y="4444560"/>
              <a:ext cx="2558160" cy="18720"/>
            </a:xfrm>
            <a:custGeom>
              <a:avLst/>
              <a:gdLst/>
              <a:ahLst/>
              <a:rect l="l" t="t" r="r" b="b"/>
              <a:pathLst>
                <a:path w="1618" h="12">
                  <a:moveTo>
                    <a:pt x="6" y="4"/>
                  </a:moveTo>
                  <a:lnTo>
                    <a:pt x="13" y="12"/>
                  </a:lnTo>
                  <a:lnTo>
                    <a:pt x="1618" y="12"/>
                  </a:lnTo>
                  <a:lnTo>
                    <a:pt x="1618" y="0"/>
                  </a:lnTo>
                  <a:lnTo>
                    <a:pt x="13" y="0"/>
                  </a:lnTo>
                  <a:lnTo>
                    <a:pt x="17" y="10"/>
                  </a:lnTo>
                  <a:lnTo>
                    <a:pt x="6" y="4"/>
                  </a:lnTo>
                  <a:lnTo>
                    <a:pt x="0" y="12"/>
                  </a:lnTo>
                  <a:lnTo>
                    <a:pt x="13" y="12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531320" y="2540160"/>
              <a:ext cx="1296360" cy="1919880"/>
            </a:xfrm>
            <a:custGeom>
              <a:avLst/>
              <a:gdLst/>
              <a:ahLst/>
              <a:rect l="l" t="t" r="r" b="b"/>
              <a:pathLst>
                <a:path w="820" h="1219">
                  <a:moveTo>
                    <a:pt x="820" y="8"/>
                  </a:moveTo>
                  <a:lnTo>
                    <a:pt x="809" y="8"/>
                  </a:lnTo>
                  <a:lnTo>
                    <a:pt x="0" y="1213"/>
                  </a:lnTo>
                  <a:lnTo>
                    <a:pt x="11" y="1219"/>
                  </a:lnTo>
                  <a:lnTo>
                    <a:pt x="820" y="14"/>
                  </a:lnTo>
                  <a:lnTo>
                    <a:pt x="809" y="14"/>
                  </a:lnTo>
                  <a:lnTo>
                    <a:pt x="820" y="8"/>
                  </a:lnTo>
                  <a:lnTo>
                    <a:pt x="815" y="0"/>
                  </a:lnTo>
                  <a:lnTo>
                    <a:pt x="809" y="8"/>
                  </a:lnTo>
                  <a:lnTo>
                    <a:pt x="820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996560" y="4453920"/>
              <a:ext cx="1685520" cy="1924560"/>
            </a:xfrm>
            <a:custGeom>
              <a:avLst/>
              <a:gdLst/>
              <a:ahLst/>
              <a:rect l="l" t="t" r="r" b="b"/>
              <a:pathLst>
                <a:path w="1066" h="1222">
                  <a:moveTo>
                    <a:pt x="0" y="0"/>
                  </a:moveTo>
                  <a:lnTo>
                    <a:pt x="534" y="1222"/>
                  </a:lnTo>
                  <a:lnTo>
                    <a:pt x="106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4c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6840" y="4451040"/>
              <a:ext cx="863280" cy="1937160"/>
            </a:xfrm>
            <a:custGeom>
              <a:avLst/>
              <a:gdLst/>
              <a:ahLst/>
              <a:rect l="l" t="t" r="r" b="b"/>
              <a:pathLst>
                <a:path w="546" h="1230">
                  <a:moveTo>
                    <a:pt x="534" y="1222"/>
                  </a:moveTo>
                  <a:lnTo>
                    <a:pt x="546" y="1222"/>
                  </a:lnTo>
                  <a:lnTo>
                    <a:pt x="12" y="0"/>
                  </a:lnTo>
                  <a:lnTo>
                    <a:pt x="0" y="6"/>
                  </a:lnTo>
                  <a:lnTo>
                    <a:pt x="534" y="1228"/>
                  </a:lnTo>
                  <a:lnTo>
                    <a:pt x="546" y="1228"/>
                  </a:lnTo>
                  <a:lnTo>
                    <a:pt x="534" y="1228"/>
                  </a:lnTo>
                  <a:lnTo>
                    <a:pt x="536" y="1230"/>
                  </a:lnTo>
                  <a:lnTo>
                    <a:pt x="538" y="1230"/>
                  </a:lnTo>
                  <a:lnTo>
                    <a:pt x="540" y="1230"/>
                  </a:lnTo>
                  <a:lnTo>
                    <a:pt x="542" y="1230"/>
                  </a:lnTo>
                  <a:lnTo>
                    <a:pt x="544" y="1230"/>
                  </a:lnTo>
                  <a:lnTo>
                    <a:pt x="546" y="1228"/>
                  </a:lnTo>
                  <a:lnTo>
                    <a:pt x="546" y="1226"/>
                  </a:lnTo>
                  <a:lnTo>
                    <a:pt x="546" y="1222"/>
                  </a:lnTo>
                  <a:lnTo>
                    <a:pt x="534" y="12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831400" y="4444560"/>
              <a:ext cx="860040" cy="1940400"/>
            </a:xfrm>
            <a:custGeom>
              <a:avLst/>
              <a:gdLst/>
              <a:ahLst/>
              <a:rect l="l" t="t" r="r" b="b"/>
              <a:pathLst>
                <a:path w="544" h="1232">
                  <a:moveTo>
                    <a:pt x="538" y="12"/>
                  </a:moveTo>
                  <a:lnTo>
                    <a:pt x="534" y="4"/>
                  </a:lnTo>
                  <a:lnTo>
                    <a:pt x="0" y="1226"/>
                  </a:lnTo>
                  <a:lnTo>
                    <a:pt x="12" y="1232"/>
                  </a:lnTo>
                  <a:lnTo>
                    <a:pt x="544" y="10"/>
                  </a:lnTo>
                  <a:lnTo>
                    <a:pt x="538" y="0"/>
                  </a:lnTo>
                  <a:lnTo>
                    <a:pt x="544" y="10"/>
                  </a:lnTo>
                  <a:lnTo>
                    <a:pt x="544" y="6"/>
                  </a:lnTo>
                  <a:lnTo>
                    <a:pt x="544" y="4"/>
                  </a:lnTo>
                  <a:lnTo>
                    <a:pt x="542" y="2"/>
                  </a:lnTo>
                  <a:lnTo>
                    <a:pt x="540" y="2"/>
                  </a:lnTo>
                  <a:lnTo>
                    <a:pt x="538" y="0"/>
                  </a:lnTo>
                  <a:lnTo>
                    <a:pt x="536" y="2"/>
                  </a:lnTo>
                  <a:lnTo>
                    <a:pt x="534" y="2"/>
                  </a:lnTo>
                  <a:lnTo>
                    <a:pt x="534" y="4"/>
                  </a:lnTo>
                  <a:lnTo>
                    <a:pt x="538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986840" y="4444560"/>
              <a:ext cx="1694880" cy="18720"/>
            </a:xfrm>
            <a:custGeom>
              <a:avLst/>
              <a:gdLst/>
              <a:ahLst/>
              <a:rect l="l" t="t" r="r" b="b"/>
              <a:pathLst>
                <a:path w="1072" h="12">
                  <a:moveTo>
                    <a:pt x="12" y="4"/>
                  </a:moveTo>
                  <a:lnTo>
                    <a:pt x="6" y="12"/>
                  </a:lnTo>
                  <a:lnTo>
                    <a:pt x="1072" y="12"/>
                  </a:lnTo>
                  <a:lnTo>
                    <a:pt x="1072" y="0"/>
                  </a:lnTo>
                  <a:lnTo>
                    <a:pt x="6" y="0"/>
                  </a:lnTo>
                  <a:lnTo>
                    <a:pt x="0" y="1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682080" y="4453920"/>
              <a:ext cx="1699920" cy="1924560"/>
            </a:xfrm>
            <a:custGeom>
              <a:avLst/>
              <a:gdLst/>
              <a:ahLst/>
              <a:rect l="l" t="t" r="r" b="b"/>
              <a:pathLst>
                <a:path w="1075" h="1222">
                  <a:moveTo>
                    <a:pt x="0" y="0"/>
                  </a:moveTo>
                  <a:lnTo>
                    <a:pt x="544" y="1222"/>
                  </a:lnTo>
                  <a:lnTo>
                    <a:pt x="107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4c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75960" y="4451040"/>
              <a:ext cx="875880" cy="1937160"/>
            </a:xfrm>
            <a:custGeom>
              <a:avLst/>
              <a:gdLst/>
              <a:ahLst/>
              <a:rect l="l" t="t" r="r" b="b"/>
              <a:pathLst>
                <a:path w="554" h="1230">
                  <a:moveTo>
                    <a:pt x="541" y="1222"/>
                  </a:moveTo>
                  <a:lnTo>
                    <a:pt x="554" y="1222"/>
                  </a:lnTo>
                  <a:lnTo>
                    <a:pt x="10" y="0"/>
                  </a:lnTo>
                  <a:lnTo>
                    <a:pt x="0" y="6"/>
                  </a:lnTo>
                  <a:lnTo>
                    <a:pt x="541" y="1228"/>
                  </a:lnTo>
                  <a:lnTo>
                    <a:pt x="554" y="1228"/>
                  </a:lnTo>
                  <a:lnTo>
                    <a:pt x="541" y="1228"/>
                  </a:lnTo>
                  <a:lnTo>
                    <a:pt x="544" y="1230"/>
                  </a:lnTo>
                  <a:lnTo>
                    <a:pt x="546" y="1230"/>
                  </a:lnTo>
                  <a:lnTo>
                    <a:pt x="548" y="1230"/>
                  </a:lnTo>
                  <a:lnTo>
                    <a:pt x="550" y="1230"/>
                  </a:lnTo>
                  <a:lnTo>
                    <a:pt x="552" y="1230"/>
                  </a:lnTo>
                  <a:lnTo>
                    <a:pt x="554" y="1228"/>
                  </a:lnTo>
                  <a:lnTo>
                    <a:pt x="554" y="1226"/>
                  </a:lnTo>
                  <a:lnTo>
                    <a:pt x="554" y="1222"/>
                  </a:lnTo>
                  <a:lnTo>
                    <a:pt x="541" y="12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531320" y="4444560"/>
              <a:ext cx="860040" cy="1940400"/>
            </a:xfrm>
            <a:custGeom>
              <a:avLst/>
              <a:gdLst/>
              <a:ahLst/>
              <a:rect l="l" t="t" r="r" b="b"/>
              <a:pathLst>
                <a:path w="544" h="1232">
                  <a:moveTo>
                    <a:pt x="538" y="12"/>
                  </a:moveTo>
                  <a:lnTo>
                    <a:pt x="532" y="4"/>
                  </a:lnTo>
                  <a:lnTo>
                    <a:pt x="0" y="1226"/>
                  </a:lnTo>
                  <a:lnTo>
                    <a:pt x="13" y="1232"/>
                  </a:lnTo>
                  <a:lnTo>
                    <a:pt x="544" y="10"/>
                  </a:lnTo>
                  <a:lnTo>
                    <a:pt x="538" y="0"/>
                  </a:lnTo>
                  <a:lnTo>
                    <a:pt x="544" y="10"/>
                  </a:lnTo>
                  <a:lnTo>
                    <a:pt x="544" y="6"/>
                  </a:lnTo>
                  <a:lnTo>
                    <a:pt x="544" y="4"/>
                  </a:lnTo>
                  <a:lnTo>
                    <a:pt x="542" y="2"/>
                  </a:lnTo>
                  <a:lnTo>
                    <a:pt x="540" y="2"/>
                  </a:lnTo>
                  <a:lnTo>
                    <a:pt x="538" y="0"/>
                  </a:lnTo>
                  <a:lnTo>
                    <a:pt x="536" y="2"/>
                  </a:lnTo>
                  <a:lnTo>
                    <a:pt x="534" y="2"/>
                  </a:lnTo>
                  <a:lnTo>
                    <a:pt x="532" y="4"/>
                  </a:lnTo>
                  <a:lnTo>
                    <a:pt x="538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672720" y="4444560"/>
              <a:ext cx="1708920" cy="18720"/>
            </a:xfrm>
            <a:custGeom>
              <a:avLst/>
              <a:gdLst/>
              <a:ahLst/>
              <a:rect l="l" t="t" r="r" b="b"/>
              <a:pathLst>
                <a:path w="1081" h="12">
                  <a:moveTo>
                    <a:pt x="12" y="4"/>
                  </a:moveTo>
                  <a:lnTo>
                    <a:pt x="6" y="12"/>
                  </a:lnTo>
                  <a:lnTo>
                    <a:pt x="1081" y="12"/>
                  </a:lnTo>
                  <a:lnTo>
                    <a:pt x="1081" y="0"/>
                  </a:lnTo>
                  <a:lnTo>
                    <a:pt x="6" y="0"/>
                  </a:lnTo>
                  <a:lnTo>
                    <a:pt x="2" y="1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382000" y="4453920"/>
              <a:ext cx="1698120" cy="1924560"/>
            </a:xfrm>
            <a:custGeom>
              <a:avLst/>
              <a:gdLst/>
              <a:ahLst/>
              <a:rect l="l" t="t" r="r" b="b"/>
              <a:pathLst>
                <a:path w="1074" h="1222">
                  <a:moveTo>
                    <a:pt x="0" y="0"/>
                  </a:moveTo>
                  <a:lnTo>
                    <a:pt x="530" y="1222"/>
                  </a:lnTo>
                  <a:lnTo>
                    <a:pt x="107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4c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372640" y="4451040"/>
              <a:ext cx="857160" cy="1937160"/>
            </a:xfrm>
            <a:custGeom>
              <a:avLst/>
              <a:gdLst/>
              <a:ahLst/>
              <a:rect l="l" t="t" r="r" b="b"/>
              <a:pathLst>
                <a:path w="542" h="1230">
                  <a:moveTo>
                    <a:pt x="530" y="1222"/>
                  </a:moveTo>
                  <a:lnTo>
                    <a:pt x="540" y="1222"/>
                  </a:lnTo>
                  <a:lnTo>
                    <a:pt x="12" y="0"/>
                  </a:lnTo>
                  <a:lnTo>
                    <a:pt x="0" y="6"/>
                  </a:lnTo>
                  <a:lnTo>
                    <a:pt x="530" y="1228"/>
                  </a:lnTo>
                  <a:lnTo>
                    <a:pt x="540" y="1228"/>
                  </a:lnTo>
                  <a:lnTo>
                    <a:pt x="530" y="1228"/>
                  </a:lnTo>
                  <a:lnTo>
                    <a:pt x="532" y="1230"/>
                  </a:lnTo>
                  <a:lnTo>
                    <a:pt x="534" y="1230"/>
                  </a:lnTo>
                  <a:lnTo>
                    <a:pt x="536" y="1230"/>
                  </a:lnTo>
                  <a:lnTo>
                    <a:pt x="538" y="1230"/>
                  </a:lnTo>
                  <a:lnTo>
                    <a:pt x="540" y="1230"/>
                  </a:lnTo>
                  <a:lnTo>
                    <a:pt x="540" y="1228"/>
                  </a:lnTo>
                  <a:lnTo>
                    <a:pt x="542" y="1226"/>
                  </a:lnTo>
                  <a:lnTo>
                    <a:pt x="540" y="1222"/>
                  </a:lnTo>
                  <a:lnTo>
                    <a:pt x="530" y="12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210720" y="4444560"/>
              <a:ext cx="878760" cy="1940400"/>
            </a:xfrm>
            <a:custGeom>
              <a:avLst/>
              <a:gdLst/>
              <a:ahLst/>
              <a:rect l="l" t="t" r="r" b="b"/>
              <a:pathLst>
                <a:path w="556" h="1232">
                  <a:moveTo>
                    <a:pt x="550" y="12"/>
                  </a:moveTo>
                  <a:lnTo>
                    <a:pt x="544" y="4"/>
                  </a:lnTo>
                  <a:lnTo>
                    <a:pt x="0" y="1226"/>
                  </a:lnTo>
                  <a:lnTo>
                    <a:pt x="10" y="1232"/>
                  </a:lnTo>
                  <a:lnTo>
                    <a:pt x="554" y="10"/>
                  </a:lnTo>
                  <a:lnTo>
                    <a:pt x="550" y="0"/>
                  </a:lnTo>
                  <a:lnTo>
                    <a:pt x="554" y="10"/>
                  </a:lnTo>
                  <a:lnTo>
                    <a:pt x="556" y="6"/>
                  </a:lnTo>
                  <a:lnTo>
                    <a:pt x="554" y="4"/>
                  </a:lnTo>
                  <a:lnTo>
                    <a:pt x="554" y="2"/>
                  </a:lnTo>
                  <a:lnTo>
                    <a:pt x="552" y="2"/>
                  </a:lnTo>
                  <a:lnTo>
                    <a:pt x="550" y="0"/>
                  </a:lnTo>
                  <a:lnTo>
                    <a:pt x="548" y="2"/>
                  </a:lnTo>
                  <a:lnTo>
                    <a:pt x="546" y="2"/>
                  </a:lnTo>
                  <a:lnTo>
                    <a:pt x="544" y="4"/>
                  </a:lnTo>
                  <a:lnTo>
                    <a:pt x="550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72640" y="4444560"/>
              <a:ext cx="1707480" cy="18720"/>
            </a:xfrm>
            <a:custGeom>
              <a:avLst/>
              <a:gdLst/>
              <a:ahLst/>
              <a:rect l="l" t="t" r="r" b="b"/>
              <a:pathLst>
                <a:path w="1080" h="12">
                  <a:moveTo>
                    <a:pt x="12" y="4"/>
                  </a:moveTo>
                  <a:lnTo>
                    <a:pt x="6" y="12"/>
                  </a:lnTo>
                  <a:lnTo>
                    <a:pt x="1080" y="12"/>
                  </a:lnTo>
                  <a:lnTo>
                    <a:pt x="1080" y="0"/>
                  </a:lnTo>
                  <a:lnTo>
                    <a:pt x="6" y="0"/>
                  </a:lnTo>
                  <a:lnTo>
                    <a:pt x="0" y="1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39400" y="4453920"/>
              <a:ext cx="1701360" cy="1924560"/>
            </a:xfrm>
            <a:custGeom>
              <a:avLst/>
              <a:gdLst/>
              <a:ahLst/>
              <a:rect l="l" t="t" r="r" b="b"/>
              <a:pathLst>
                <a:path w="1076" h="1222">
                  <a:moveTo>
                    <a:pt x="542" y="0"/>
                  </a:moveTo>
                  <a:lnTo>
                    <a:pt x="1076" y="1222"/>
                  </a:lnTo>
                  <a:lnTo>
                    <a:pt x="0" y="1222"/>
                  </a:lnTo>
                  <a:lnTo>
                    <a:pt x="542" y="0"/>
                  </a:lnTo>
                  <a:close/>
                </a:path>
              </a:pathLst>
            </a:custGeom>
            <a:solidFill>
              <a:srgbClr val="74c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986840" y="4451040"/>
              <a:ext cx="863280" cy="1937160"/>
            </a:xfrm>
            <a:custGeom>
              <a:avLst/>
              <a:gdLst/>
              <a:ahLst/>
              <a:rect l="l" t="t" r="r" b="b"/>
              <a:pathLst>
                <a:path w="546" h="1230">
                  <a:moveTo>
                    <a:pt x="540" y="1230"/>
                  </a:moveTo>
                  <a:lnTo>
                    <a:pt x="546" y="1222"/>
                  </a:lnTo>
                  <a:lnTo>
                    <a:pt x="12" y="0"/>
                  </a:lnTo>
                  <a:lnTo>
                    <a:pt x="0" y="6"/>
                  </a:lnTo>
                  <a:lnTo>
                    <a:pt x="534" y="1228"/>
                  </a:lnTo>
                  <a:lnTo>
                    <a:pt x="540" y="1217"/>
                  </a:lnTo>
                  <a:lnTo>
                    <a:pt x="534" y="1228"/>
                  </a:lnTo>
                  <a:lnTo>
                    <a:pt x="536" y="1230"/>
                  </a:lnTo>
                  <a:lnTo>
                    <a:pt x="538" y="1230"/>
                  </a:lnTo>
                  <a:lnTo>
                    <a:pt x="540" y="1230"/>
                  </a:lnTo>
                  <a:lnTo>
                    <a:pt x="542" y="1230"/>
                  </a:lnTo>
                  <a:lnTo>
                    <a:pt x="544" y="1230"/>
                  </a:lnTo>
                  <a:lnTo>
                    <a:pt x="546" y="1228"/>
                  </a:lnTo>
                  <a:lnTo>
                    <a:pt x="546" y="1226"/>
                  </a:lnTo>
                  <a:lnTo>
                    <a:pt x="546" y="1222"/>
                  </a:lnTo>
                  <a:lnTo>
                    <a:pt x="540" y="12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130040" y="6367680"/>
              <a:ext cx="1710720" cy="20520"/>
            </a:xfrm>
            <a:custGeom>
              <a:avLst/>
              <a:gdLst/>
              <a:ahLst/>
              <a:rect l="l" t="t" r="r" b="b"/>
              <a:pathLst>
                <a:path w="1082" h="13">
                  <a:moveTo>
                    <a:pt x="0" y="5"/>
                  </a:moveTo>
                  <a:lnTo>
                    <a:pt x="6" y="13"/>
                  </a:lnTo>
                  <a:lnTo>
                    <a:pt x="1082" y="13"/>
                  </a:lnTo>
                  <a:lnTo>
                    <a:pt x="1082" y="0"/>
                  </a:lnTo>
                  <a:lnTo>
                    <a:pt x="6" y="0"/>
                  </a:lnTo>
                  <a:lnTo>
                    <a:pt x="13" y="11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30040" y="4444560"/>
              <a:ext cx="875880" cy="1940400"/>
            </a:xfrm>
            <a:custGeom>
              <a:avLst/>
              <a:gdLst/>
              <a:ahLst/>
              <a:rect l="l" t="t" r="r" b="b"/>
              <a:pathLst>
                <a:path w="554" h="1232">
                  <a:moveTo>
                    <a:pt x="554" y="4"/>
                  </a:moveTo>
                  <a:lnTo>
                    <a:pt x="542" y="4"/>
                  </a:lnTo>
                  <a:lnTo>
                    <a:pt x="0" y="1226"/>
                  </a:lnTo>
                  <a:lnTo>
                    <a:pt x="13" y="1232"/>
                  </a:lnTo>
                  <a:lnTo>
                    <a:pt x="554" y="10"/>
                  </a:lnTo>
                  <a:lnTo>
                    <a:pt x="542" y="10"/>
                  </a:lnTo>
                  <a:lnTo>
                    <a:pt x="554" y="10"/>
                  </a:lnTo>
                  <a:lnTo>
                    <a:pt x="554" y="6"/>
                  </a:lnTo>
                  <a:lnTo>
                    <a:pt x="554" y="4"/>
                  </a:lnTo>
                  <a:lnTo>
                    <a:pt x="552" y="2"/>
                  </a:lnTo>
                  <a:lnTo>
                    <a:pt x="550" y="2"/>
                  </a:lnTo>
                  <a:lnTo>
                    <a:pt x="548" y="0"/>
                  </a:lnTo>
                  <a:lnTo>
                    <a:pt x="546" y="2"/>
                  </a:lnTo>
                  <a:lnTo>
                    <a:pt x="544" y="2"/>
                  </a:lnTo>
                  <a:lnTo>
                    <a:pt x="542" y="4"/>
                  </a:lnTo>
                  <a:lnTo>
                    <a:pt x="554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840760" y="4453920"/>
              <a:ext cx="1701360" cy="1924560"/>
            </a:xfrm>
            <a:custGeom>
              <a:avLst/>
              <a:gdLst/>
              <a:ahLst/>
              <a:rect l="l" t="t" r="r" b="b"/>
              <a:pathLst>
                <a:path w="1076" h="1222">
                  <a:moveTo>
                    <a:pt x="532" y="0"/>
                  </a:moveTo>
                  <a:lnTo>
                    <a:pt x="0" y="1222"/>
                  </a:lnTo>
                  <a:lnTo>
                    <a:pt x="1076" y="1222"/>
                  </a:lnTo>
                  <a:lnTo>
                    <a:pt x="532" y="0"/>
                  </a:lnTo>
                  <a:close/>
                </a:path>
              </a:pathLst>
            </a:custGeom>
            <a:solidFill>
              <a:srgbClr val="74c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831400" y="4451040"/>
              <a:ext cx="860040" cy="1937160"/>
            </a:xfrm>
            <a:custGeom>
              <a:avLst/>
              <a:gdLst/>
              <a:ahLst/>
              <a:rect l="l" t="t" r="r" b="b"/>
              <a:pathLst>
                <a:path w="544" h="1230">
                  <a:moveTo>
                    <a:pt x="6" y="1217"/>
                  </a:moveTo>
                  <a:lnTo>
                    <a:pt x="12" y="1228"/>
                  </a:lnTo>
                  <a:lnTo>
                    <a:pt x="544" y="6"/>
                  </a:lnTo>
                  <a:lnTo>
                    <a:pt x="534" y="0"/>
                  </a:lnTo>
                  <a:lnTo>
                    <a:pt x="0" y="1222"/>
                  </a:lnTo>
                  <a:lnTo>
                    <a:pt x="6" y="1230"/>
                  </a:lnTo>
                  <a:lnTo>
                    <a:pt x="0" y="1222"/>
                  </a:lnTo>
                  <a:lnTo>
                    <a:pt x="0" y="1226"/>
                  </a:lnTo>
                  <a:lnTo>
                    <a:pt x="0" y="1228"/>
                  </a:lnTo>
                  <a:lnTo>
                    <a:pt x="2" y="1230"/>
                  </a:lnTo>
                  <a:lnTo>
                    <a:pt x="4" y="1230"/>
                  </a:lnTo>
                  <a:lnTo>
                    <a:pt x="6" y="1230"/>
                  </a:lnTo>
                  <a:lnTo>
                    <a:pt x="8" y="1230"/>
                  </a:lnTo>
                  <a:lnTo>
                    <a:pt x="10" y="1230"/>
                  </a:lnTo>
                  <a:lnTo>
                    <a:pt x="12" y="1228"/>
                  </a:lnTo>
                  <a:lnTo>
                    <a:pt x="6" y="12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840760" y="6367680"/>
              <a:ext cx="1710720" cy="20520"/>
            </a:xfrm>
            <a:custGeom>
              <a:avLst/>
              <a:gdLst/>
              <a:ahLst/>
              <a:rect l="l" t="t" r="r" b="b"/>
              <a:pathLst>
                <a:path w="1082" h="13">
                  <a:moveTo>
                    <a:pt x="1069" y="11"/>
                  </a:moveTo>
                  <a:lnTo>
                    <a:pt x="1076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076" y="13"/>
                  </a:lnTo>
                  <a:lnTo>
                    <a:pt x="1082" y="5"/>
                  </a:lnTo>
                  <a:lnTo>
                    <a:pt x="1076" y="13"/>
                  </a:lnTo>
                  <a:lnTo>
                    <a:pt x="1078" y="13"/>
                  </a:lnTo>
                  <a:lnTo>
                    <a:pt x="1080" y="13"/>
                  </a:lnTo>
                  <a:lnTo>
                    <a:pt x="1082" y="11"/>
                  </a:lnTo>
                  <a:lnTo>
                    <a:pt x="1082" y="7"/>
                  </a:lnTo>
                  <a:lnTo>
                    <a:pt x="1082" y="5"/>
                  </a:lnTo>
                  <a:lnTo>
                    <a:pt x="1080" y="2"/>
                  </a:lnTo>
                  <a:lnTo>
                    <a:pt x="1078" y="2"/>
                  </a:lnTo>
                  <a:lnTo>
                    <a:pt x="1076" y="0"/>
                  </a:lnTo>
                  <a:lnTo>
                    <a:pt x="1069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672720" y="4444560"/>
              <a:ext cx="878760" cy="1940400"/>
            </a:xfrm>
            <a:custGeom>
              <a:avLst/>
              <a:gdLst/>
              <a:ahLst/>
              <a:rect l="l" t="t" r="r" b="b"/>
              <a:pathLst>
                <a:path w="556" h="1232">
                  <a:moveTo>
                    <a:pt x="12" y="10"/>
                  </a:moveTo>
                  <a:lnTo>
                    <a:pt x="2" y="10"/>
                  </a:lnTo>
                  <a:lnTo>
                    <a:pt x="543" y="1232"/>
                  </a:lnTo>
                  <a:lnTo>
                    <a:pt x="556" y="1226"/>
                  </a:lnTo>
                  <a:lnTo>
                    <a:pt x="12" y="4"/>
                  </a:lnTo>
                  <a:lnTo>
                    <a:pt x="2" y="4"/>
                  </a:lnTo>
                  <a:lnTo>
                    <a:pt x="12" y="4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2" y="10"/>
                  </a:lnTo>
                  <a:lnTo>
                    <a:pt x="12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542480" y="4453920"/>
              <a:ext cx="1677600" cy="1924560"/>
            </a:xfrm>
            <a:custGeom>
              <a:avLst/>
              <a:gdLst/>
              <a:ahLst/>
              <a:rect l="l" t="t" r="r" b="b"/>
              <a:pathLst>
                <a:path w="1061" h="1222">
                  <a:moveTo>
                    <a:pt x="0" y="1222"/>
                  </a:moveTo>
                  <a:lnTo>
                    <a:pt x="531" y="0"/>
                  </a:lnTo>
                  <a:lnTo>
                    <a:pt x="1061" y="1222"/>
                  </a:lnTo>
                  <a:lnTo>
                    <a:pt x="0" y="1222"/>
                  </a:lnTo>
                  <a:close/>
                </a:path>
              </a:pathLst>
            </a:custGeom>
            <a:solidFill>
              <a:srgbClr val="74c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31320" y="4444560"/>
              <a:ext cx="860040" cy="1940400"/>
            </a:xfrm>
            <a:custGeom>
              <a:avLst/>
              <a:gdLst/>
              <a:ahLst/>
              <a:rect l="l" t="t" r="r" b="b"/>
              <a:pathLst>
                <a:path w="544" h="1232">
                  <a:moveTo>
                    <a:pt x="544" y="4"/>
                  </a:moveTo>
                  <a:lnTo>
                    <a:pt x="532" y="4"/>
                  </a:lnTo>
                  <a:lnTo>
                    <a:pt x="0" y="1226"/>
                  </a:lnTo>
                  <a:lnTo>
                    <a:pt x="13" y="1232"/>
                  </a:lnTo>
                  <a:lnTo>
                    <a:pt x="544" y="10"/>
                  </a:lnTo>
                  <a:lnTo>
                    <a:pt x="532" y="10"/>
                  </a:lnTo>
                  <a:lnTo>
                    <a:pt x="544" y="10"/>
                  </a:lnTo>
                  <a:lnTo>
                    <a:pt x="544" y="6"/>
                  </a:lnTo>
                  <a:lnTo>
                    <a:pt x="544" y="4"/>
                  </a:lnTo>
                  <a:lnTo>
                    <a:pt x="542" y="2"/>
                  </a:lnTo>
                  <a:lnTo>
                    <a:pt x="540" y="2"/>
                  </a:lnTo>
                  <a:lnTo>
                    <a:pt x="538" y="0"/>
                  </a:lnTo>
                  <a:lnTo>
                    <a:pt x="536" y="2"/>
                  </a:lnTo>
                  <a:lnTo>
                    <a:pt x="534" y="2"/>
                  </a:lnTo>
                  <a:lnTo>
                    <a:pt x="532" y="4"/>
                  </a:lnTo>
                  <a:lnTo>
                    <a:pt x="544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372640" y="4451040"/>
              <a:ext cx="857160" cy="1937160"/>
            </a:xfrm>
            <a:custGeom>
              <a:avLst/>
              <a:gdLst/>
              <a:ahLst/>
              <a:rect l="l" t="t" r="r" b="b"/>
              <a:pathLst>
                <a:path w="542" h="1230">
                  <a:moveTo>
                    <a:pt x="536" y="1230"/>
                  </a:moveTo>
                  <a:lnTo>
                    <a:pt x="540" y="1222"/>
                  </a:lnTo>
                  <a:lnTo>
                    <a:pt x="12" y="0"/>
                  </a:lnTo>
                  <a:lnTo>
                    <a:pt x="0" y="6"/>
                  </a:lnTo>
                  <a:lnTo>
                    <a:pt x="530" y="1228"/>
                  </a:lnTo>
                  <a:lnTo>
                    <a:pt x="536" y="1217"/>
                  </a:lnTo>
                  <a:lnTo>
                    <a:pt x="530" y="1228"/>
                  </a:lnTo>
                  <a:lnTo>
                    <a:pt x="532" y="1230"/>
                  </a:lnTo>
                  <a:lnTo>
                    <a:pt x="534" y="1230"/>
                  </a:lnTo>
                  <a:lnTo>
                    <a:pt x="536" y="1230"/>
                  </a:lnTo>
                  <a:lnTo>
                    <a:pt x="538" y="1230"/>
                  </a:lnTo>
                  <a:lnTo>
                    <a:pt x="540" y="1230"/>
                  </a:lnTo>
                  <a:lnTo>
                    <a:pt x="540" y="1228"/>
                  </a:lnTo>
                  <a:lnTo>
                    <a:pt x="542" y="1226"/>
                  </a:lnTo>
                  <a:lnTo>
                    <a:pt x="540" y="1222"/>
                  </a:lnTo>
                  <a:lnTo>
                    <a:pt x="536" y="12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31320" y="6367680"/>
              <a:ext cx="1688760" cy="20520"/>
            </a:xfrm>
            <a:custGeom>
              <a:avLst/>
              <a:gdLst/>
              <a:ahLst/>
              <a:rect l="l" t="t" r="r" b="b"/>
              <a:pathLst>
                <a:path w="1068" h="13">
                  <a:moveTo>
                    <a:pt x="0" y="5"/>
                  </a:moveTo>
                  <a:lnTo>
                    <a:pt x="7" y="13"/>
                  </a:lnTo>
                  <a:lnTo>
                    <a:pt x="1068" y="13"/>
                  </a:lnTo>
                  <a:lnTo>
                    <a:pt x="1068" y="0"/>
                  </a:lnTo>
                  <a:lnTo>
                    <a:pt x="7" y="0"/>
                  </a:lnTo>
                  <a:lnTo>
                    <a:pt x="13" y="11"/>
                  </a:lnTo>
                  <a:lnTo>
                    <a:pt x="7" y="0"/>
                  </a:lnTo>
                  <a:lnTo>
                    <a:pt x="5" y="2"/>
                  </a:lnTo>
                  <a:lnTo>
                    <a:pt x="3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1"/>
                  </a:lnTo>
                  <a:lnTo>
                    <a:pt x="3" y="13"/>
                  </a:lnTo>
                  <a:lnTo>
                    <a:pt x="5" y="13"/>
                  </a:lnTo>
                  <a:lnTo>
                    <a:pt x="7" y="1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20080" y="4453920"/>
              <a:ext cx="1674360" cy="1924560"/>
            </a:xfrm>
            <a:custGeom>
              <a:avLst/>
              <a:gdLst/>
              <a:ahLst/>
              <a:rect l="l" t="t" r="r" b="b"/>
              <a:pathLst>
                <a:path w="1059" h="1222">
                  <a:moveTo>
                    <a:pt x="0" y="1222"/>
                  </a:moveTo>
                  <a:lnTo>
                    <a:pt x="544" y="0"/>
                  </a:lnTo>
                  <a:lnTo>
                    <a:pt x="1059" y="1222"/>
                  </a:lnTo>
                  <a:lnTo>
                    <a:pt x="0" y="1222"/>
                  </a:lnTo>
                  <a:close/>
                </a:path>
              </a:pathLst>
            </a:custGeom>
            <a:solidFill>
              <a:srgbClr val="74c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10720" y="4444560"/>
              <a:ext cx="878760" cy="1940400"/>
            </a:xfrm>
            <a:custGeom>
              <a:avLst/>
              <a:gdLst/>
              <a:ahLst/>
              <a:rect l="l" t="t" r="r" b="b"/>
              <a:pathLst>
                <a:path w="556" h="1232">
                  <a:moveTo>
                    <a:pt x="554" y="4"/>
                  </a:moveTo>
                  <a:lnTo>
                    <a:pt x="544" y="4"/>
                  </a:lnTo>
                  <a:lnTo>
                    <a:pt x="0" y="1226"/>
                  </a:lnTo>
                  <a:lnTo>
                    <a:pt x="10" y="1232"/>
                  </a:lnTo>
                  <a:lnTo>
                    <a:pt x="554" y="10"/>
                  </a:lnTo>
                  <a:lnTo>
                    <a:pt x="544" y="10"/>
                  </a:lnTo>
                  <a:lnTo>
                    <a:pt x="554" y="10"/>
                  </a:lnTo>
                  <a:lnTo>
                    <a:pt x="556" y="6"/>
                  </a:lnTo>
                  <a:lnTo>
                    <a:pt x="554" y="4"/>
                  </a:lnTo>
                  <a:lnTo>
                    <a:pt x="554" y="2"/>
                  </a:lnTo>
                  <a:lnTo>
                    <a:pt x="552" y="2"/>
                  </a:lnTo>
                  <a:lnTo>
                    <a:pt x="550" y="0"/>
                  </a:lnTo>
                  <a:lnTo>
                    <a:pt x="548" y="2"/>
                  </a:lnTo>
                  <a:lnTo>
                    <a:pt x="546" y="2"/>
                  </a:lnTo>
                  <a:lnTo>
                    <a:pt x="544" y="4"/>
                  </a:lnTo>
                  <a:lnTo>
                    <a:pt x="554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70760" y="4451040"/>
              <a:ext cx="833040" cy="1937160"/>
            </a:xfrm>
            <a:custGeom>
              <a:avLst/>
              <a:gdLst/>
              <a:ahLst/>
              <a:rect l="l" t="t" r="r" b="b"/>
              <a:pathLst>
                <a:path w="527" h="1230">
                  <a:moveTo>
                    <a:pt x="521" y="1230"/>
                  </a:moveTo>
                  <a:lnTo>
                    <a:pt x="527" y="1222"/>
                  </a:lnTo>
                  <a:lnTo>
                    <a:pt x="10" y="0"/>
                  </a:lnTo>
                  <a:lnTo>
                    <a:pt x="0" y="6"/>
                  </a:lnTo>
                  <a:lnTo>
                    <a:pt x="517" y="1228"/>
                  </a:lnTo>
                  <a:lnTo>
                    <a:pt x="521" y="1217"/>
                  </a:lnTo>
                  <a:lnTo>
                    <a:pt x="517" y="1228"/>
                  </a:lnTo>
                  <a:lnTo>
                    <a:pt x="517" y="1230"/>
                  </a:lnTo>
                  <a:lnTo>
                    <a:pt x="519" y="1230"/>
                  </a:lnTo>
                  <a:lnTo>
                    <a:pt x="521" y="1230"/>
                  </a:lnTo>
                  <a:lnTo>
                    <a:pt x="523" y="1230"/>
                  </a:lnTo>
                  <a:lnTo>
                    <a:pt x="525" y="1230"/>
                  </a:lnTo>
                  <a:lnTo>
                    <a:pt x="527" y="1228"/>
                  </a:lnTo>
                  <a:lnTo>
                    <a:pt x="527" y="1226"/>
                  </a:lnTo>
                  <a:lnTo>
                    <a:pt x="527" y="1222"/>
                  </a:lnTo>
                  <a:lnTo>
                    <a:pt x="521" y="12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10720" y="6367680"/>
              <a:ext cx="1683720" cy="20520"/>
            </a:xfrm>
            <a:custGeom>
              <a:avLst/>
              <a:gdLst/>
              <a:ahLst/>
              <a:rect l="l" t="t" r="r" b="b"/>
              <a:pathLst>
                <a:path w="1065" h="13">
                  <a:moveTo>
                    <a:pt x="0" y="5"/>
                  </a:moveTo>
                  <a:lnTo>
                    <a:pt x="6" y="13"/>
                  </a:lnTo>
                  <a:lnTo>
                    <a:pt x="1065" y="13"/>
                  </a:lnTo>
                  <a:lnTo>
                    <a:pt x="1065" y="0"/>
                  </a:lnTo>
                  <a:lnTo>
                    <a:pt x="6" y="0"/>
                  </a:lnTo>
                  <a:lnTo>
                    <a:pt x="10" y="11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6" y="1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08520" y="1973160"/>
              <a:ext cx="13676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Times New Roman"/>
                </a:rPr>
                <a:t>Környez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23520" y="5618160"/>
              <a:ext cx="10213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Times New Roman"/>
                </a:rPr>
                <a:t>Értéke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483280" y="4650840"/>
              <a:ext cx="8031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Times New Roman"/>
                </a:rPr>
                <a:t>Tudá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834000" y="4504680"/>
              <a:ext cx="140724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Times New Roman"/>
                </a:rPr>
                <a:t>Bölcsessé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912560" y="5646600"/>
              <a:ext cx="10040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Times New Roman"/>
                </a:rPr>
                <a:t>Kultú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606000" y="5918760"/>
              <a:ext cx="10245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Times New Roman"/>
                </a:rPr>
                <a:t>Politik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01800" y="3827160"/>
              <a:ext cx="12222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Times New Roman"/>
                </a:rPr>
                <a:t>Termelé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34000" y="2730960"/>
              <a:ext cx="14608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Times New Roman"/>
                </a:rPr>
                <a:t>Fogyasztá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144760" y="3748320"/>
              <a:ext cx="13867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Times New Roman"/>
                </a:rPr>
                <a:t>Intézménye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54240" y="5900040"/>
              <a:ext cx="12963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Times New Roman"/>
                </a:rPr>
                <a:t>Szemlél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649480" y="4611600"/>
              <a:ext cx="11682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Times New Roman"/>
                </a:rPr>
                <a:t>Stratég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1280" y="2540160"/>
              <a:ext cx="7664400" cy="37440"/>
            </a:xfrm>
            <a:custGeom>
              <a:avLst/>
              <a:gdLst/>
              <a:ahLst/>
              <a:rect l="l" t="t" r="r" b="b"/>
              <a:pathLst>
                <a:path w="4847" h="24">
                  <a:moveTo>
                    <a:pt x="4847" y="12"/>
                  </a:moveTo>
                  <a:lnTo>
                    <a:pt x="4847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4847" y="24"/>
                  </a:lnTo>
                  <a:lnTo>
                    <a:pt x="4847" y="12"/>
                  </a:lnTo>
                  <a:close/>
                </a:path>
              </a:pathLst>
            </a:custGeom>
            <a:solidFill>
              <a:srgbClr val="74c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A hulladékprobléma ok-okozati meghatározottság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hulladék mennyisége és minősége a termelés és fogyasztás szerkezetétől fü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termelés és fogyasztás szerkezetét a társadalmi intézményrendszer befolyásol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indezek alapvetően a társadalom értékrendjétől függn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VÁN</cp:lastModifiedBy>
  <dcterms:modified xsi:type="dcterms:W3CDTF">2005-06-07T12:46:51Z</dcterms:modified>
  <cp:revision>9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