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5978-A6E0-429E-8E1D-678431546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1967-A87B-4E1E-A7D3-A640B795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B277-9257-40E9-9D4E-08D7D68CB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EE22-695A-445E-B1CE-836B5E85B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D92A-CCC5-408C-A5D1-81E01485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E5E2-02D8-4DB8-AE85-0ACBCC2C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5608-DF96-402B-A707-E3C15ADD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5698-3FED-459B-9AB7-DF39D124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F2CF-C290-4B53-BDA0-B3210086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F3D7-F7D2-4448-848D-CA3B64FA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2D6B-650F-453D-8404-34328F7A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215A-3A19-44ED-8E01-539D9873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4126-3B6D-4499-B503-470935C5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2463-6A98-43B6-94B9-3505D356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E04D-B433-4B0C-889F-63E1862C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652E-38BA-4D8E-A62E-BBC493A89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664C-B9BE-4875-83AD-BE368FAB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B841-1BEC-4355-B4CF-CE3F2C78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2103-2CFC-4205-B49E-72B133FD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DC8B-75D8-48A1-BF50-470DECAA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D269-7B69-4CAA-9249-3C992506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507F-F299-4CCC-B4D8-5F474707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3452-2328-4044-8A38-0991922D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DC39-28CE-4596-B71F-318EE0AF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D0C6-35FD-4C0F-904B-C25F858B707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5C0A-1CDD-49C6-9686-73635E130762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Waste prevention policy and experience in Sloveni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7960" y="4351320"/>
            <a:ext cx="680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Albin Keuc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2a3d7a"/>
                </a:solidFill>
                <a:latin typeface="Arial"/>
              </a:rPr>
              <a:t>No Waste is Good Waste </a:t>
            </a:r>
            <a:br>
              <a:rPr sz="2800"/>
            </a:br>
            <a:r>
              <a:rPr b="0" lang="hu-HU" sz="2400" spc="-1" strike="noStrike">
                <a:solidFill>
                  <a:srgbClr val="2a3d7a"/>
                </a:solidFill>
                <a:latin typeface="Arial"/>
              </a:rPr>
              <a:t>Waste Prevention Conference, Budapest 2005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3" name="flag_guide-1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976320" cy="728640"/>
          </a:xfrm>
          <a:prstGeom prst="rect">
            <a:avLst/>
          </a:prstGeom>
          <a:ln w="0">
            <a:noFill/>
          </a:ln>
        </p:spPr>
      </p:pic>
      <p:pic>
        <p:nvPicPr>
          <p:cNvPr id="94" name="Umanotera_jpg" descr=""/>
          <p:cNvPicPr/>
          <p:nvPr/>
        </p:nvPicPr>
        <p:blipFill>
          <a:blip r:embed="rId2"/>
          <a:stretch/>
        </p:blipFill>
        <p:spPr>
          <a:xfrm>
            <a:off x="6553080" y="380880"/>
            <a:ext cx="2320920" cy="673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062800" y="6014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Arial Narrow"/>
              </a:rPr>
              <a:t>2005 </a:t>
            </a:r>
            <a:r>
              <a:rPr b="1" lang="en-US" sz="1800" spc="-1" strike="noStrike">
                <a:solidFill>
                  <a:srgbClr val="5b5249"/>
                </a:solidFill>
                <a:latin typeface="Arial Narrow"/>
                <a:ea typeface="Arial"/>
              </a:rPr>
              <a:t>© </a:t>
            </a:r>
            <a:r>
              <a:rPr b="1" lang="en-US" sz="1800" spc="-1" strike="noStrike">
                <a:solidFill>
                  <a:srgbClr val="5b5249"/>
                </a:solidFill>
                <a:latin typeface="Arial Narrow"/>
              </a:rPr>
              <a:t>Umanotera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5867280"/>
            <a:ext cx="80773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Waste prevention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Strict Avoidance, Reduction at Source, Product Re-use (OECD)..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Quantitative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 Qualitativ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... or even dematerialisation ;-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Much less is done on that, however landfill tax creates a pressure on the waste producer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Perspectiv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2101320"/>
            <a:ext cx="807732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There are a lot of data available to stear the waste-ship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3350 companies (10 t/y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572 different waste material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Growing interest in waste issues in the public and in the industry </a:t>
            </a:r>
            <a:r>
              <a:rPr b="0" lang="hu-HU" sz="3200" spc="-1" strike="noStrike">
                <a:solidFill>
                  <a:srgbClr val="5b5249"/>
                </a:solidFill>
                <a:latin typeface="Arial"/>
              </a:rPr>
              <a:t>(IPPC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Good household practic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Growing consumerism – threat or opportunity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Perspectives Two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Strict Avoidance, Reduction at Source, Product Re-use ARE DEPENDING ON CHANGE AND INNOV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How to introduce CHANGE and INNOVATION in companie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Institutional culture, corporative and individual values,..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Market pressure? Is it enough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Recommendation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24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Material efficiency infrastructu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Remember energy efficiency approach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Interlinking knowledge, expertise and inform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Eco-design of product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Extended producer responsibility (take-it-back schemes), liabilit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Green procurem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Subsidi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kolesar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5349960" cy="2332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208240" y="4572000"/>
            <a:ext cx="534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Thank you for your attention!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Conten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24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Slovenia – basic dat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Retro-spectiv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Waste policy and it’s implement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Legisl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Waste generation and managemen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Eco-efficiency first!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Waste prevention?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Perspectiv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Slovenia – basic dat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Population of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 mill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GDP per capita in </a:t>
            </a:r>
            <a:r>
              <a:rPr b="0" lang="en-US" sz="3200" spc="-1" strike="noStrike">
                <a:solidFill>
                  <a:srgbClr val="5b5249"/>
                </a:solidFill>
                <a:latin typeface="Arial"/>
                <a:ea typeface="Arial"/>
              </a:rPr>
              <a:t>€: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12.979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  <a:ea typeface="Arial"/>
              </a:rPr>
              <a:t>Unemployment: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6,3 %</a:t>
            </a:r>
            <a:r>
              <a:rPr b="0" lang="en-US" sz="3200" spc="-1" strike="noStrike">
                <a:solidFill>
                  <a:srgbClr val="5b5249"/>
                </a:solidFill>
                <a:latin typeface="Arial"/>
                <a:ea typeface="Arial"/>
              </a:rPr>
              <a:t> (ILO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  <a:ea typeface="Arial"/>
              </a:rPr>
              <a:t>Municipal waste per capita: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420 k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  <a:ea typeface="Arial"/>
              </a:rPr>
              <a:t>All waste (industry, mining,municipal, energy sector): </a:t>
            </a: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5.740,000 ton/yea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Waste landfilled: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840.000 ton/yea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Waste policy (declarations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24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1996 First strategic document – adopting EU waste hierarch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1999 First National Environmental Programme – following the prioriti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2005 Second NEP – adopting EU approach (environmental technology, sustainable use of natural resources, decoupling, integration...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Setting the scenery by introducing legislation – horizontal, waste treatment, major waste stream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Legisl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24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horizont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Who is who in waste managemen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Mandatory reporting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waste treatm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Landfill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Incineration (no MSWI yet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major waste stream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packaging, oil, batteries, ELVs, WEEE, etc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Waste policy implement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Low level on political priority list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Focused on ensuring basic collection, recovery and disposal infrastructu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Some basic support to voluntary programmes (eco-efficiency measures), but ...</a:t>
            </a: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ntroduced landfill tax and duties on batteries and oil</a:t>
            </a: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 (ca. 20 million </a:t>
            </a:r>
            <a:r>
              <a:rPr b="0" lang="en-US" sz="3200" spc="-1" strike="noStrike">
                <a:solidFill>
                  <a:srgbClr val="5b5249"/>
                </a:solidFill>
                <a:latin typeface="Arial"/>
                <a:ea typeface="Arial"/>
              </a:rPr>
              <a:t>€/year</a:t>
            </a: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Waste gener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24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840.000</a:t>
            </a: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 municipal waste (households + public institutions, industry and commerc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2.000.000</a:t>
            </a: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 construction and min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1.900.000</a:t>
            </a: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 energy  secto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1.000.000</a:t>
            </a: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 industr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However more important is the following..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Direct Material Input and GDP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0" name="38-2_SI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723924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Eco-efficiency first!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Clean Production Program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Ca. 50 compani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Eco-Profit Program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Ca. 35 compani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Waste issues are just part of the overall cost efficiency task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closing the loops, control mass flows in the company, separate collection of waste, finding market for the process residu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8T16:47:25Z</dcterms:created>
  <dc:creator>xy</dc:creator>
  <dc:description/>
  <dc:language>en-US</dc:language>
  <cp:lastModifiedBy>xy</cp:lastModifiedBy>
  <dcterms:modified xsi:type="dcterms:W3CDTF">2005-06-08T18:38:20Z</dcterms:modified>
  <cp:revision>34</cp:revision>
  <dc:subject/>
  <dc:title>PowerPoint bemutató</dc:title>
</cp:coreProperties>
</file>