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2825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88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500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30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88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500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2880" y="361800"/>
            <a:ext cx="4562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884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5000" y="190476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30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884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5000" y="4093920"/>
            <a:ext cx="2710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2880" y="361800"/>
            <a:ext cx="4562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6200" y="409392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200" y="1904760"/>
            <a:ext cx="4107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3040" y="4093920"/>
            <a:ext cx="841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038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205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2038" r="0" b="0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62728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8205c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205c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8205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62728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1" lang="hu-HU" sz="4600" spc="-1" strike="noStrike">
                <a:solidFill>
                  <a:srgbClr val="08205c"/>
                </a:solidFill>
                <a:latin typeface="Arial"/>
              </a:rPr>
              <a:t>Hulladék-megelőzés a közszférában</a:t>
            </a:r>
            <a:r>
              <a:rPr b="1" i="1" lang="hu-HU" sz="4600" spc="-1" strike="noStrike">
                <a:solidFill>
                  <a:srgbClr val="08205c"/>
                </a:solidFill>
                <a:latin typeface="Arial"/>
              </a:rPr>
              <a:t> </a:t>
            </a:r>
            <a:br>
              <a:rPr sz="4600"/>
            </a:br>
            <a:br>
              <a:rPr sz="4600"/>
            </a:b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Budapest, 2005. június 9.</a:t>
            </a:r>
            <a:br>
              <a:rPr sz="4600"/>
            </a:br>
            <a:br>
              <a:rPr sz="4600"/>
            </a:b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Markó Csaba </a:t>
            </a:r>
            <a:br>
              <a:rPr sz="2400"/>
            </a:b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280" y="5864400"/>
            <a:ext cx="32763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Ajánlás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080" y="1267920"/>
            <a:ext cx="8785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ndéglátással kapcsolatos beszerzéseik során mellőzzék az egyszer használatos palackok, poharak, tányérok és evőeszközök használatá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ts val="25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eszerzési eljárások során az ajánlattevő műszaki, szakmai alkalmasságának igazolásakor – összhangban a közbeszerzési szabályozással – legyen feltétel a környezetvédelmi vezetési és hitelesítési rendszerbe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rténő működ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ódszertani útmutatás a minisztereknek és az országos hatáskörű szervek vezetői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KvVM – KÖVET-INEM Hungária: „Zöld Iroda Kézikönyv”, megjelenés 2005. nyar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Tapasztalatok - KvVM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3040" y="1413000"/>
            <a:ext cx="8416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apí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ektronikus ügyintézés: 10% felhasználás csökk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oldalas nyomtatás és másolás, üres oldalak piszkozati felhasználása: 20% felhasználás csökk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ra-papír használata: 10% költségmegtakar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lektív gyűjtés: 20% vegyes hulladék mennyiség csökk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lágítás racionalizálása: 20% megtakar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űtés, légkondicionálás, energiatakarékos berendezések, használati szokások racionalizálása: 15% megtakar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Tapasztalatok - KvVM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3040" y="1341000"/>
            <a:ext cx="841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e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íztakarékossá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fokozott karbantartás, csapok, WC-tartályok cseréje: 10% megtakar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lekedés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kozott karbantartás, gumiabroncsok, guminyomás – 15% fogyasztás csökk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karít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környezetkímélő módszerek alkalmazása – 30% költségmegtakar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éb megelőz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sték és tintapatronok újratölt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üfé: eldobható eszközök megszüntetése, újratölthető palackok forg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selejtezett eszközök értékesítése továbbhasználatra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Tapasztalatok - KvVM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3040" y="1125360"/>
            <a:ext cx="8416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lektív gyűj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001. őszétől, a HuMuSZ szervezésében (KvVM és háttér intézmény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apír:  51.6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űanyag: 16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veg: 71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razelem: 372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rodai veszélyes hulladék: 39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sen 550 m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vegyes kommunális hulladék csökke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kozatos bevezetés a területi szervekné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720" y="361800"/>
            <a:ext cx="55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Jogi háttér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7440" y="119664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2000. évi XLIII. Törvény a hulladékgazdálkodás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örvény célja (többek közöt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rmészeti erőforrásokkal való takarékos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ulladékkeletkezés megelőzése (a természettől elsajátított anyag minél teljesebb felhasználása, hosszú élettartamú és újrahasználható termékek kialakít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elv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megelőzés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n belül az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integrált szennyezésmegelőzé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ve alapján legkisebb mértékűre kell szorítani a képződő hulladék mennyiségét és veszélyes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éldamutatá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ve alapján az állami és helyi önkormányzati szervek a munkájukban érvényesítik a törvény céljait és elv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Jogi háttér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7440" y="1125360"/>
            <a:ext cx="8928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tevékenységet úgy kell megtervezni és végezni, hogy a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ztosítsa a hulladékképződés megelőzését, a keletkező hulladék mennyiségének és veszélyességének csökkentés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ulladékképződés megelőzése, valamint a keletkező hulladék mennyiségének és veszélyességének csökkentése érdekében előnyben kell részesíte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nyag- és energiatakarékos, hulladékszegény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ológiák alkalmazásá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nyagnak, illetőleg a hulladéknak a termelési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gyasztási körfolyamatban tartásá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kisebb tömegű és térfogatú hulladékot é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nnyező anyagot eredményező termékek előállításá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ulladékként kockázatot jelentő anyagok kiváltás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A közszféra szerepe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7440" y="1267920"/>
            <a:ext cx="8856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gi feltételek, kötelezettségek meghatározása, végrehajtás ellenőr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asági környezet alakítása, érdekeltség megterem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mléletformálás – példamu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beszerz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özszféra megelőzési gyakorl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konkrét jogi kötelezettség ni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gazdasági előny – rövid távú, bázis szemléletű megközelítés, támogatási ig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beszerzési gyakorlat – EU közbeszerzési szabályozás (opcionális, nehézkes lehető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A közszféra szerepe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3040" y="1196640"/>
            <a:ext cx="841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nkéntesség – szemlé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ponti államigazgatási szervek: szaktárca felelőssége, elvi támogatás, jogi és gazdasági kifog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 közigazgatási szervek: aktív önkormányzatok, együttműködés NGO-kkal, szolgáltatókkal, koordináló szervezete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intézmények: főleg oktatási intézmények, esetenként kulturális rendezv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Környezetbarát kormányzás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plex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pződés megelőzése – újrahasználat, tartós termé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szélyesség megelőzése – alternatív, környezetbarát termék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őforrás felhasználás megelőzése – hasznosítással előállított termék, szelektív gyűjtés-hasznosítás, energiatakarékosság, víztakarék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rakás megelőzése - szelektív gyűjtés-hasz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Környezetbarát kormányzás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3040" y="1904760"/>
            <a:ext cx="841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ézked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mléletformálás – tájékoztatók, útmutatók, tanácsadás, szakmai és társadalmi szervezetek bevon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asági ösztönzés – rövid és hosszú távú előnyök bemutatása, támogatási források bemut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gi eszközök alkalmazása – ajánlások, mennyiségi és minőségi célok, esetleg kötelezettségek meghatár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nkéntes vállalások támogatása (EMAS, Zöld Ir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mutatás – akciók szervezé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Ajánlás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440" y="1196640"/>
            <a:ext cx="8856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2005. április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vVM előterjesztésében a Kormány ajánlást fogadott 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ormányzat környezettudatos irodai és környezettudatos beszerzési tevékenysége fejlesztésé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jék fel helyzetüket és lehetőségeiket, és tegyenek  intézkedéseket a környezetbarát irodai működés intézményi színtű bevezetésére, ill. fejlesztésére, gondoskodjanak ezen intézkedések dolgozók körében történő megismertetéséről, betartásuk ösztönzéséről, ellenőrzésérő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zessék be legalább a papír, az üveg, a műanyag és a veszélyes (de legalább a használt elem)  hulladékokra a szelektív hulladékgyűjtési és kezelési rendszert, és gondoskodjanak működtetésérő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2880" y="361800"/>
            <a:ext cx="45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8205c"/>
                </a:solidFill>
                <a:latin typeface="Arial"/>
              </a:rPr>
              <a:t>Ajánlás</a:t>
            </a:r>
            <a:endParaRPr b="1" lang="en-US" sz="2400" spc="-1" strike="noStrike">
              <a:solidFill>
                <a:srgbClr val="08205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4000" y="1196640"/>
            <a:ext cx="9001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axgépekben, másolókban, nyomtatókban felhasznált festék-patronokra biztosítsák az újratöltés lehetőségé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ztosítsák, hogy másolópapír teljes mennyiségének legalább 40 %-a környezetbarát papír legyen, az egyéb papír-termékek (levélpapír, boríték, kiadványok, névjegykártya) a lehető legnagyobb arányban környezetbarát alapanyagúk legye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ztosítsák az energiatakarékos fénycsövek, világítótestek használat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ztosítsák, hogy az irodai tevékenységgel összefüggő műszaki eszközök beszerzése során az anyag- és energiatakarékosság szempontjai minél nagyobb mértékben érvényesüljenek (másolók, faxok, nyomtatók, számítógépek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44:12Z</dcterms:created>
  <dc:creator>CzmorZsu</dc:creator>
  <dc:description/>
  <dc:language>en-US</dc:language>
  <cp:lastModifiedBy>marko</cp:lastModifiedBy>
  <dcterms:modified xsi:type="dcterms:W3CDTF">2005-06-07T13:32:31Z</dcterms:modified>
  <cp:revision>112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30971423</vt:r8>
  </property>
  <property fmtid="{D5CDD505-2E9C-101B-9397-08002B2CF9AE}" pid="3" name="_AuthorEmail">
    <vt:lpwstr>marko@mail.kvvm.hu</vt:lpwstr>
  </property>
  <property fmtid="{D5CDD505-2E9C-101B-9397-08002B2CF9AE}" pid="4" name="_AuthorEmailDisplayName">
    <vt:lpwstr>Markó Csaba</vt:lpwstr>
  </property>
  <property fmtid="{D5CDD505-2E9C-101B-9397-08002B2CF9AE}" pid="5" name="_EmailSubject">
    <vt:lpwstr>Június 9. Hulladékmegelőzési konferencia</vt:lpwstr>
  </property>
</Properties>
</file>