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F41-7EE3-453F-BEA9-F6073C45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A06-A3B5-4F57-9BF4-F8A48C24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22B-9FDC-49A3-8A55-511FBF8E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159-727F-4A7F-A3B5-4B7F5FA1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0CA-4AF3-4BFA-87FA-6CADFBD2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6A5-E515-469B-8047-C13B089C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57C-1B09-48A5-9976-BAA4B13D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B5E-F5E2-494D-A8B2-E019B675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B05-733E-4D55-A025-537FE70F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156-C49A-46A7-B0FA-5B4D866B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234-F6B5-4132-A5ED-204F1C4B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505-A9FF-4CF0-81EC-E5647652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6E85-C36B-4429-946E-AC2C13755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International Policy Frameworks for Waste Prevention: OECD approach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5640" y="429264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MÁZI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001 OECD Környezetvédelmi Stratégia a XXI. század első évtizedé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őbb trendek 2020-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iros lámpa: mezőgazdasági szennyezések, túlhalászat, GHG-kibocsátás, gépjárművek és repülőgépek légszennyezése, települési hulladék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t fő stratégiai cé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koszisztémák integritásának fenntartása, hatékony erőforrás-gazdálko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rnyezetterhelések szétválása a gazdasági növekedést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öntéshozatal javítása, haladás mér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etminőség jav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lcsönös globális függő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4 Tanácsi Ajánlás az anyagáramokról és erőforrás-termelékenységr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án kezdeményezés, G-8 támogatás, 3R megközel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agáramokkal kapcsolatos ismeretek fejlesz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őforrás-termelékenység és nemzeti szintű anyagáramlás mér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étválási mutatók kidolgozá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50920" y="1052640"/>
          <a:ext cx="849780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84978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éhány kihívás MK számá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s és erőforrás-szegény orsz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ő a külső erőforrásoktól való függő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nergia-és anyagintenzív gazda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ersenyképesség és erőforrás-hatékonyság, innov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onzumerizmus és hedonizmus féktelen terjed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ECD dióhéj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 alapítás é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tagállam Észak-Amerika, Európa, Ázsia- Csendes-óceáni tér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ület 34.8 millió 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épesség 1 153 millió (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29 983 milliárd USD (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/fő 26 000 USD (2003,PP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övid történeti áttekin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4 Nyilatkozat a környezetpolitikár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6 Tanácsi Ajánlás az átfogó hulladékgazdálkodási politikár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9 Nyilatkozat a megelőző típusú környezetpolitikár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6 Tanácsi Ajánlás a kormányok környezeti teljesítményének javításár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 OECD Környezetvédelmi Stratégia a XXI. század első évtizedé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2 Tanácsi Ajánlás a közbeszerzések környezeti teljesítményének javításár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4 Tanácsi Ajánlás az anyagáramokról és erőforrás-termelékenységrő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95280" y="549360"/>
          <a:ext cx="8339040" cy="52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33904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974 Nyilatkozat a környezetpolitikár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azdasági növekedés új megközelí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Életminőség javítása vs.előállított javak mennyisé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-szennyező technológiák támoga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nergia-és erőforrás-takarékos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nyagok újrahaszno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űkös erőforrások helyettesí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976 Tanácsi Ajánlás az átfogó hulladékgazdálkodási politikáró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rnyezeti célok, ésszerű energia-és erőforrás-felhaszná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egrált szemlélet vs. médiamegközel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elvek: szennyezési lánc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gyártás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felhasználás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ártalmatlanítás, forrásnál történő csökkentés,  terméktervezés, élettartam-meghosszabbítás, gyártási folyamatok átalakítása, újrahasználat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9 Nyilatkozat a megelőző típusú környezetpolitikár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őforrások számbavé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őforrás-és energiamegőrző folyamatok, termékek tervezése és 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6 Tanácsi Ajánlás a kormányok környezeti teljesítményének javításár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rmányok példamutató szere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rmányzati döntéshozatal „zöldíté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rmányzati létesítmények környezetbarát működtetése (energia, víz és anyag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lladékképződés minimalizál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rmányzati közbeszerzések „zöldíté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2:06:16Z</dcterms:created>
  <dc:creator>pomazi</dc:creator>
  <dc:description/>
  <dc:language>en-US</dc:language>
  <cp:lastModifiedBy>pomazi</cp:lastModifiedBy>
  <dcterms:modified xsi:type="dcterms:W3CDTF">2005-06-08T16:01:08Z</dcterms:modified>
  <cp:revision>4</cp:revision>
  <dc:subject/>
  <dc:title>International Policy Frameworks for Waste Prevention: OECD approaches and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3408319</vt:r8>
  </property>
  <property fmtid="{D5CDD505-2E9C-101B-9397-08002B2CF9AE}" pid="3" name="_AuthorEmail">
    <vt:lpwstr>pomazi@mail.kvvm.hu</vt:lpwstr>
  </property>
  <property fmtid="{D5CDD505-2E9C-101B-9397-08002B2CF9AE}" pid="4" name="_AuthorEmailDisplayName">
    <vt:lpwstr>Pomázi István  Dr</vt:lpwstr>
  </property>
  <property fmtid="{D5CDD505-2E9C-101B-9397-08002B2CF9AE}" pid="5" name="_EmailSubject">
    <vt:lpwstr>Június 9. Hulladék megelőzési konferencia</vt:lpwstr>
  </property>
</Properties>
</file>